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B8B-F79F-4123-8800-9C815545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5A7-703D-4F81-8ED1-9DF3E6F8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170-A391-4655-AEF2-20BA8C50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690-2678-4A7E-9650-01D9F39F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170-142B-4F9F-8F34-95D6543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783-16B9-4F33-8755-E970DA40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D4F-561D-4F15-9078-09748740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AC7-5C32-44A0-A879-3B21E28C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68B-7493-464E-8B68-C9D19B0D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312-9C42-4F51-B98C-30AC0AB3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9AD-66DB-440F-BC91-4D3681FC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B9A-C92D-4031-8AFA-0461C5BB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1854-8A3E-4010-A1DD-B743F9FDA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HIPAT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</a:t>
            </a: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DE ALEJAND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aría Llorens 2º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ació en Alejandría a med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l siglo IV,en el 370 d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a hija de Teón,profesor mate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astrón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ipatia supero en importancia a su pad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se dice que algunos escritos de este eran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alidad obras de su h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a vida de Hipatia hu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s patriarcas: el primero fue Teófi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gobernó hasta su muerte e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ño 415,siendo sucedido por Ciri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más tarde ordenó matar a Hipat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N%20CIRILO%20DE%20ALEJANDRÍA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084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CUBRI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e la inventora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trolab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strumento que sirve para medir la altitud de las estrellas, los planetas y 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scarga" descr=""/>
          <p:cNvPicPr/>
          <p:nvPr/>
        </p:nvPicPr>
        <p:blipFill>
          <a:blip r:embed="rId1"/>
          <a:stretch/>
        </p:blipFill>
        <p:spPr>
          <a:xfrm>
            <a:off x="129528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descarga%20(1)" descr=""/>
          <p:cNvPicPr/>
          <p:nvPr/>
        </p:nvPicPr>
        <p:blipFill>
          <a:blip r:embed="rId2"/>
          <a:stretch/>
        </p:blipFill>
        <p:spPr>
          <a:xfrm>
            <a:off x="3886200" y="4286160"/>
            <a:ext cx="2560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oscop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sirve para medir la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pecífica de los líqu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Cartografió cuerpos celestes,confeccionando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Planisfe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localizad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ellas y constel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til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ómetro gradua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medir la densidad relativ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ravedad de los líquidos, pre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actual aerómetro,descrito por Sinesio de Cir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s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571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BRAS DE HIPA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nguna de sus obras se conservan,pero se cono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cias a sus discípulos como Sinesio de Cirene o Hesiqu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Comentario a la Aritmétic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n 14 libros de Diof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Escribió un trabajo titulado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“El Cánon astronóm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u obra más importante: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De las cónicas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 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rrolló el álgebra y la trigonomet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Revisió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s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ablas astronómic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Tolom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20:12:01Z</dcterms:created>
  <dc:creator>Notebook</dc:creator>
  <dc:description/>
  <dc:language>en-US</dc:language>
  <cp:lastModifiedBy>Notebook</cp:lastModifiedBy>
  <dcterms:modified xsi:type="dcterms:W3CDTF">2014-03-12T20:12:40Z</dcterms:modified>
  <cp:revision>1</cp:revision>
  <dc:subject/>
  <dc:title>Presentación de PowerPoint</dc:title>
</cp:coreProperties>
</file>