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ADC-86F7-4D2F-A086-90D4E237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1F2-1339-485D-99E4-0086C7B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88D-CA32-4DD6-B1B8-9F7A1351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0F5-B909-4B86-9C06-818C5B05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F11-8CDD-48E4-8BCA-BC81603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490-7C64-4D93-8163-4CD0ABB5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9FD-6FB3-4060-9637-D535762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0A2-5FF9-4720-B5EF-317F36D5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769-7752-4138-9533-94EE065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3A8-0A73-47BD-A358-28F5A1B6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80D-0CE6-41F9-9E33-25FF881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ECB-836D-4DF7-81E9-9A7E3757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AA1-E36C-49F9-9E63-0EA2E25B4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HIPA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</a:t>
            </a: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DE ALEJAND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cc"/>
                </a:solidFill>
                <a:latin typeface="Times New Roman"/>
              </a:rPr>
              <a:t>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ría Llorens 2º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ació en Alejandría a med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l siglo IV,en el 370 d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ra hija de Teón,profesor mate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astró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atia supero en importancia a su pad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Y se dice que algunos escritos de este eran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alidad obras de su h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a vida de Hipatia hu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patriarcas: el primero fue Teófi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gobernó hasta su muerte e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ño 415,siendo sucedido por Cir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ien más tarde ordenó matar a Hipat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%20CIRILO%20DE%20ALEJANDRÍA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2084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CUBRI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e la inventora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trolab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trumento que sirve para medir la altitud de las estrellas, los planetas y 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carga" descr=""/>
          <p:cNvPicPr/>
          <p:nvPr/>
        </p:nvPicPr>
        <p:blipFill>
          <a:blip r:embed="rId1"/>
          <a:stretch/>
        </p:blipFill>
        <p:spPr>
          <a:xfrm>
            <a:off x="129528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descarga%20(1)" descr=""/>
          <p:cNvPicPr/>
          <p:nvPr/>
        </p:nvPicPr>
        <p:blipFill>
          <a:blip r:embed="rId2"/>
          <a:stretch/>
        </p:blipFill>
        <p:spPr>
          <a:xfrm>
            <a:off x="3886200" y="4286160"/>
            <a:ext cx="256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oscop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sirve para medir la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pecífica de los líqu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Cartografió cuerpos celestes,confeccionand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lanisfe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localizad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ellas y constel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til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·Inventó un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hidrómetro gradua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medir la densidad relativ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ravedad de los líquidos, pre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actual aerómetro,descrito por Sinesio de Cir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s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5718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RAS DE HIPA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nguna de sus obras se conservan,pero se cono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cias a sus discípulos como Sinesio de Cirene o Hesiq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Comentario a la Aritmétic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n 14 libros de Diof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Alejand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Escribió un trabajo titulad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“El Cánon astronóm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u obra más importante: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”De las cónicas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 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ó el álgebra y la trigonomet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visió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s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ablas astronómic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Tolom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20:12:01Z</dcterms:created>
  <dc:creator>Notebook</dc:creator>
  <dc:description/>
  <dc:language>en-US</dc:language>
  <cp:lastModifiedBy>Notebook</cp:lastModifiedBy>
  <dcterms:modified xsi:type="dcterms:W3CDTF">2014-03-12T20:12:40Z</dcterms:modified>
  <cp:revision>1</cp:revision>
  <dc:subject/>
  <dc:title>Presentación de PowerPoint</dc:title>
</cp:coreProperties>
</file>