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9D7-2491-497C-A209-6D92BFDD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D16-9A4E-4F1F-9CBF-F60CBB85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383-8EF3-41D6-B9C3-F7DE55C4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6AD-991B-46D9-83FD-20F349D8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5BC-1759-4648-9645-795ABB02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106-06C8-4E09-AF37-67388EB1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4FA-D6E2-40DF-AB73-8B64477C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A9E-7D66-4D14-893B-331B792E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946-8859-4811-AA18-C557C0CE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39A-EB6B-4400-BAA7-C8A1C35E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EF6-5CE2-4CE2-AE6D-13460080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3F0-7B83-4D95-A860-9FA4385E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1510-FA77-4EF5-854C-FC70DF799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HIPAT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      </a:t>
            </a: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DE ALEJAND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aría Llorens 2º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ació en Alejandría a med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l siglo IV,en el 370 d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ra hija de Teón,profesor mate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Y astrón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ipatia supero en importancia a su pad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Y se dice que algunos escritos de este eran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alidad obras de su h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a vida de Hipatia hu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os patriarcas: el primero fue Teófi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ien gobernó hasta su muerte e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ño 415,siendo sucedido por Ciri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ien más tarde ordenó matar a Hipat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AN%20CIRILO%20DE%20ALEJANDRÍA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2084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CUBRI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e la inventora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trolabi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nstrumento que sirve para medir la altitud de las estrellas, los planetas y 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escarga" descr=""/>
          <p:cNvPicPr/>
          <p:nvPr/>
        </p:nvPicPr>
        <p:blipFill>
          <a:blip r:embed="rId1"/>
          <a:stretch/>
        </p:blipFill>
        <p:spPr>
          <a:xfrm>
            <a:off x="1295280" y="42861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49" name="descarga%20(1)" descr=""/>
          <p:cNvPicPr/>
          <p:nvPr/>
        </p:nvPicPr>
        <p:blipFill>
          <a:blip r:embed="rId2"/>
          <a:stretch/>
        </p:blipFill>
        <p:spPr>
          <a:xfrm>
            <a:off x="3886200" y="4286160"/>
            <a:ext cx="2560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hidroscop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sirve para medir la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pecífica de los líqu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Cartografió cuerpos celestes,confeccionando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Planisfer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localizad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ellas y constel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Inventó un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destil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Inventó un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hidrómetro graduad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medir la densidad relativ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ravedad de los líquidos, pre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l actual aerómetro,descrito por Sinesio de Cir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s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5718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BRAS DE HIPA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inguna de sus obras se conservan,pero se cono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cias a sus discípulos como Sinesio de Cirene o Hesiqu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Alejand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”Comentario a la Aritmética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en 14 libros de Diofa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Alejand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Escribió un trabajo titulado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“El Cánon astronóm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u obra más importante: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”De las cónicas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, 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rrolló el álgebra y la trigonomet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Revisió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las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ablas astronómic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Tolom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20:12:01Z</dcterms:created>
  <dc:creator>Notebook</dc:creator>
  <dc:description/>
  <dc:language>en-US</dc:language>
  <cp:lastModifiedBy>Notebook</cp:lastModifiedBy>
  <dcterms:modified xsi:type="dcterms:W3CDTF">2014-03-12T20:12:40Z</dcterms:modified>
  <cp:revision>1</cp:revision>
  <dc:subject/>
  <dc:title>Presentación de PowerPoint</dc:title>
</cp:coreProperties>
</file>