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E42-518A-4133-B9C0-A7614E25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687-D807-4DCB-9E6F-248E23F5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74A-E387-4670-ADAC-DCA7AB1A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5B9-8EB8-4A55-AD50-45698A62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910-1D74-45FA-984C-A2786320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B3D-8096-42E9-BEDF-9B3045A1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D36-CEDC-4884-B7AF-10BC532D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048-DF11-49AD-A391-730EA5D7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991-E972-4DD4-AC46-615C4AD2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03A-BD8E-4C09-827E-CB2FA6DF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D91-3A40-4AA6-8FF6-159B565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CAB-3A29-41A8-99E2-C6FB0912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1E5D-0FFB-4EAF-A440-F0521DA57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HIPAT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</a:t>
            </a: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DE ALEJAND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aría Llorens 2º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ació en Alejandría a med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l siglo IV,en el 370 d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ra hija de Teón,profesor mate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astrón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ipatia supero en importancia a su pad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se dice que algunos escritos de este eran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alidad obras de su h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a vida de Hipatia hu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s patriarcas: el primero fue Teófi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gobernó hasta su muerte e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ño 415,siendo sucedido por Ciri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más tarde ordenó matar a Hipat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AN%20CIRILO%20DE%20ALEJANDRÍA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2084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CUBRI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e la inventora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trolab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strumento que sirve para medir la altitud de las estrellas, los planetas y 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escarga" descr=""/>
          <p:cNvPicPr/>
          <p:nvPr/>
        </p:nvPicPr>
        <p:blipFill>
          <a:blip r:embed="rId1"/>
          <a:stretch/>
        </p:blipFill>
        <p:spPr>
          <a:xfrm>
            <a:off x="129528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descarga%20(1)" descr=""/>
          <p:cNvPicPr/>
          <p:nvPr/>
        </p:nvPicPr>
        <p:blipFill>
          <a:blip r:embed="rId2"/>
          <a:stretch/>
        </p:blipFill>
        <p:spPr>
          <a:xfrm>
            <a:off x="3886200" y="4286160"/>
            <a:ext cx="2560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oscop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sirve para medir la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pecífica de los líqu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Cartografió cuerpos celestes,confeccionando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Planisfer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localizad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ellas y constel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destil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ómetro gradua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medir la densidad relativ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ravedad de los líquidos, pre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l actual aerómetro,descrito por Sinesio de Cir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s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571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BRAS DE HIPA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nguna de sus obras se conservan,pero se cono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cias a sus discípulos como Sinesio de Cirene o Hesiqu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Comentario a la Aritmética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en 14 libros de Diofa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Escribió un trabajo titulado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“El Cánon astronóm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u obra más importante: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De las cónicas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 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rrolló el álgebra y la trigonomet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Revisió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s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ablas astronómic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Tolom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20:12:01Z</dcterms:created>
  <dc:creator>Notebook</dc:creator>
  <dc:description/>
  <dc:language>en-US</dc:language>
  <cp:lastModifiedBy>Notebook</cp:lastModifiedBy>
  <dcterms:modified xsi:type="dcterms:W3CDTF">2014-03-12T20:12:40Z</dcterms:modified>
  <cp:revision>1</cp:revision>
  <dc:subject/>
  <dc:title>Presentación de PowerPoint</dc:title>
</cp:coreProperties>
</file>