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0CF7-8A79-47C6-8725-B7A124DE3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C54B-D62F-485C-9EBB-30967E20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19F5-6E5D-464B-B7B1-C29F0A713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D47C-B66C-4561-B601-9E85918C7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0CA2-DAFB-4999-845C-66F230C9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4447-A4E6-41A2-A75F-5A0125BE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16C5-F7F2-4B4B-B536-FFAE01EE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F672-9BE7-4737-A705-EFAE7619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2C53-C371-4933-AF59-4DD0DCC3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E80A-38B5-443A-8BC3-4F8EEBBD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74F7-31D1-4169-86EE-D9C4B0D7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1BA5-9148-4FC0-8FB3-F32BB057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CEF6-5E61-40C5-90C9-5E1FCFD9A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900cc"/>
                </a:solidFill>
                <a:latin typeface="Times New Roman"/>
              </a:rPr>
              <a:t>HIPAT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900cc"/>
                </a:solidFill>
                <a:latin typeface="Times New Roman"/>
              </a:rPr>
              <a:t>      </a:t>
            </a:r>
            <a:r>
              <a:rPr b="0" lang="es-ES" sz="3600" spc="-1" strike="noStrike">
                <a:solidFill>
                  <a:srgbClr val="9900cc"/>
                </a:solidFill>
                <a:latin typeface="Times New Roman"/>
              </a:rPr>
              <a:t>DE ALEJANDRÍ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900cc"/>
                </a:solidFill>
                <a:latin typeface="Times New Roman"/>
              </a:rPr>
              <a:t>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aría Llorens 2º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Nació en Alejandría a medi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el siglo IV,en el 370 d.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ra hija de Teón,profesor matemá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Y astrón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Hipatia supero en importancia a su padr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Y se dice que algunos escritos de este eran 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Realidad obras de su hi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urante la vida de Hipatia hub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os patriarcas: el primero fue Teófil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quien gobernó hasta su muerte en 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ño 415,siendo sucedido por Ciri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quien más tarde ordenó matar a Hipat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AN%20CIRILO%20DE%20ALEJANDRÍA" descr=""/>
          <p:cNvPicPr/>
          <p:nvPr/>
        </p:nvPicPr>
        <p:blipFill>
          <a:blip r:embed="rId1"/>
          <a:stretch/>
        </p:blipFill>
        <p:spPr>
          <a:xfrm>
            <a:off x="6477120" y="1219320"/>
            <a:ext cx="208440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CUBRIMIEN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e la inventora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strolabi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instrumento que sirve para medir la altitud de las estrellas, los planetas y el S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descarga" descr=""/>
          <p:cNvPicPr/>
          <p:nvPr/>
        </p:nvPicPr>
        <p:blipFill>
          <a:blip r:embed="rId1"/>
          <a:stretch/>
        </p:blipFill>
        <p:spPr>
          <a:xfrm>
            <a:off x="1295280" y="428616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49" name="descarga%20(1)" descr=""/>
          <p:cNvPicPr/>
          <p:nvPr/>
        </p:nvPicPr>
        <p:blipFill>
          <a:blip r:embed="rId2"/>
          <a:stretch/>
        </p:blipFill>
        <p:spPr>
          <a:xfrm>
            <a:off x="3886200" y="4286160"/>
            <a:ext cx="2560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</a:rPr>
              <a:t>hidroscopio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, sirve para medir la grav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specífica de los líqu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·Cartografió cuerpos celestes,confeccionando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Times New Roman"/>
              </a:rPr>
              <a:t>Planisferio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, localizador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strellas y constel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·Inventó un 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</a:rPr>
              <a:t>destil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·Inventó un 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</a:rPr>
              <a:t>hidrómetro graduado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a medir la densidad relativa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Gravedad de los líquidos, precur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l actual aerómetro,descrito por Sinesio de Cire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images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257184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OBRAS DE HIPAT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inguna de sus obras se conservan,pero se conoc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gracias a sus discípulos como Sinesio de Cirene o Hesiqu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 Alejandrí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”Comentario a la Aritmética”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en 14 libros de Diofa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 Alejandr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Escribió un trabajo titulado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“El Cánon astronómic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u obra más importante: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”De las cónicas”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, do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sarrolló el álgebra y la trigonometr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Revisión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 las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tablas astronómicas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 Tolom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20:12:01Z</dcterms:created>
  <dc:creator>Notebook</dc:creator>
  <dc:description/>
  <dc:language>en-US</dc:language>
  <cp:lastModifiedBy>Notebook</cp:lastModifiedBy>
  <dcterms:modified xsi:type="dcterms:W3CDTF">2014-03-12T20:12:40Z</dcterms:modified>
  <cp:revision>1</cp:revision>
  <dc:subject/>
  <dc:title>Presentación de PowerPoint</dc:title>
</cp:coreProperties>
</file>