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483880-EA0D-483A-9C5C-C4185CEE7B7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951198D-3DDD-454A-9A51-DBA8E1EF0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597BF46-0ED5-4BA5-AB8F-45157A0EE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D1A4BEB-D260-491A-8DBA-A71F1CC5D1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3D266-450F-4817-9E54-A126969CD4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F1C9A5-9337-4DDD-A539-83AA1FCFA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5152437-FF9F-4F5A-B08F-2908D0DDC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985493-7B55-419E-8453-0DCFCE0AD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7022F56A-3E51-4291-BE62-9721299D1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CE76D15-CEF9-4803-9C61-2FEF6EC1B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B277AE-25FA-41CF-843D-2F0E63805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CD489-0093-4FF0-855B-04FEBE6D3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7DE6A7-031D-4CE6-BCD5-07DDBE84E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2B3DBD-0A36-4ADC-B05F-53FC401A3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C6BB95-7C08-4603-9844-08CFA1ED6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50FC2BF-0D66-45E2-8AC6-9E3E3796F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61BE11D-136F-4C83-915B-49D8318FED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E552D1-4D52-4F9A-9056-3596B12D2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F14F36-4B71-4A3E-B419-CDB479B8A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95B8D04F-5BA6-4BEE-8099-BCDC67547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3A57BEB-9CB7-4363-AD38-3C2D014C9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902B12-4E65-4B5A-A025-C095D921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F06968-22AF-4002-A560-3FF7C7C2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7FA05D-D02C-44C7-9EA9-58D9BBDBBB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ECACE-375A-4329-A57D-6B2F76120A08}" type="datetime">
              <a:rPr b="0" lang="es-ES" sz="1200" spc="-1" strike="noStrike">
                <a:solidFill>
                  <a:srgbClr val="8b8b8b"/>
                </a:solidFill>
                <a:latin typeface="Calibri"/>
                <a:ea typeface="Segoe UI"/>
              </a:rPr>
              <a:t>30/07/26</a:t>
            </a:fld>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643F9-AA22-4CB4-A26B-26B57E0BEB2A}"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0960" cy="146844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dt" idx="3"/>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04C763-71CF-4612-8E6E-81ECCF08F1E4}" type="datetime">
              <a:rPr b="0" lang="es-ES" sz="1200" spc="-1" strike="noStrike">
                <a:solidFill>
                  <a:srgbClr val="8b8b8b"/>
                </a:solidFill>
                <a:latin typeface="Calibri"/>
                <a:ea typeface="Segoe UI"/>
              </a:rPr>
              <a:t>30/07/26</a:t>
            </a:fld>
            <a:endParaRPr b="0" lang="en-US" sz="1200" spc="-1" strike="noStrike">
              <a:solidFill>
                <a:srgbClr val="000000"/>
              </a:solidFill>
              <a:latin typeface="Arial"/>
            </a:endParaRPr>
          </a:p>
        </p:txBody>
      </p:sp>
      <p:sp>
        <p:nvSpPr>
          <p:cNvPr id="4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3"/>
          <p:cNvSpPr>
            <a:spLocks noGrp="1"/>
          </p:cNvSpPr>
          <p:nvPr>
            <p:ph type="sldNum" idx="4"/>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6A304-7C12-494F-B2EB-14DBFA381112}"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45"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Calibri"/>
              </a:rPr>
              <a:t>El principito en Valencia</a:t>
            </a:r>
            <a:endParaRPr b="0" lang="en-US" sz="4400" spc="-1" strike="noStrike">
              <a:solidFill>
                <a:srgbClr val="000000"/>
              </a:solidFill>
              <a:latin typeface="Calibri"/>
            </a:endParaRPr>
          </a:p>
        </p:txBody>
      </p:sp>
      <p:pic>
        <p:nvPicPr>
          <p:cNvPr id="83" name="" descr=""/>
          <p:cNvPicPr/>
          <p:nvPr/>
        </p:nvPicPr>
        <p:blipFill>
          <a:blip r:embed="rId1"/>
          <a:stretch/>
        </p:blipFill>
        <p:spPr>
          <a:xfrm>
            <a:off x="214200" y="2500200"/>
            <a:ext cx="4381560" cy="2857680"/>
          </a:xfrm>
          <a:prstGeom prst="rect">
            <a:avLst/>
          </a:prstGeom>
          <a:ln w="0">
            <a:noFill/>
          </a:ln>
        </p:spPr>
      </p:pic>
      <p:pic>
        <p:nvPicPr>
          <p:cNvPr id="84" name="" descr=""/>
          <p:cNvPicPr/>
          <p:nvPr/>
        </p:nvPicPr>
        <p:blipFill>
          <a:blip r:embed="rId2"/>
          <a:stretch/>
        </p:blipFill>
        <p:spPr>
          <a:xfrm>
            <a:off x="4714920" y="2571840"/>
            <a:ext cx="4214880" cy="257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792000" y="71280"/>
            <a:ext cx="7493040" cy="6336000"/>
          </a:xfrm>
          <a:prstGeom prst="rect">
            <a:avLst/>
          </a:prstGeom>
          <a:noFill/>
          <a:ln w="0">
            <a:noFill/>
          </a:ln>
        </p:spPr>
        <p:txBody>
          <a:bodyPr anchor="t">
            <a:noAutofit/>
          </a:bodyPr>
          <a:p>
            <a:pPr algn="ct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u="sng">
                <a:solidFill>
                  <a:srgbClr val="000000"/>
                </a:solidFill>
                <a:uFillTx/>
                <a:latin typeface="Calibri"/>
              </a:rPr>
              <a:t>Diálogo con El Principito  </a:t>
            </a:r>
            <a:endParaRPr b="0" lang="en-US" sz="40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Hola,soy el Principito.Alguien puede decirme donde estoy?</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1</a:t>
            </a:r>
            <a:r>
              <a:rPr b="1" lang="es-ES" sz="2800" spc="-1" strike="noStrike">
                <a:solidFill>
                  <a:srgbClr val="000000"/>
                </a:solidFill>
                <a:latin typeface="Calibri"/>
              </a:rPr>
              <a:t>)·Tania:</a:t>
            </a:r>
            <a:r>
              <a:rPr b="0" lang="es-ES" sz="2800" spc="-1" strike="noStrike">
                <a:solidFill>
                  <a:srgbClr val="000000"/>
                </a:solidFill>
                <a:latin typeface="Calibri"/>
              </a:rPr>
              <a:t>Hola Principito,estás en Valencia una de la ciudades más representativa de España,la cual cuenta con uno de los puertos más importantes de todo el Mediterráne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Quién fundó Valencia?</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2·</a:t>
            </a:r>
            <a:r>
              <a:rPr b="1" lang="es-ES" sz="2800" spc="-1" strike="noStrike">
                <a:solidFill>
                  <a:srgbClr val="000000"/>
                </a:solidFill>
                <a:latin typeface="Calibri"/>
              </a:rPr>
              <a:t>Raque</a:t>
            </a:r>
            <a:r>
              <a:rPr b="0" lang="es-ES" sz="2800" spc="-1" strike="noStrike">
                <a:solidFill>
                  <a:srgbClr val="000000"/>
                </a:solidFill>
                <a:latin typeface="Calibri"/>
              </a:rPr>
              <a:t>l:Valencia fue fundada por los romanos en el año 138 aC, y le llamaron Valentia que significa "Valiente y fuerte".Fue destruida en un guerra civil por Pompeyo y durante 50 años estuvo despoblada.La cuidad estaba construida bajo la actual plaza de l'Almoina,donde hoy se pueden visitar los restos de la antigua ciudad</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144360"/>
            <a:ext cx="8496360" cy="643104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podemos ver en le centro histórico?</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3)·Daniel</a:t>
            </a:r>
            <a:r>
              <a:rPr b="0" lang="es-ES" sz="2400" spc="-1" strike="noStrike">
                <a:solidFill>
                  <a:srgbClr val="000000"/>
                </a:solidFill>
                <a:latin typeface="Calibri"/>
              </a:rPr>
              <a:t>:En el centro histórico se encuentra la catedral,que destaca por sus diferentes estilos arquitectónicos(románico,gótico y barroco) junto a más edificios históricos.</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centros deportivos tiene Valencia?</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4)·Jesús</a:t>
            </a:r>
            <a:r>
              <a:rPr b="0" lang="es-ES" sz="2400" spc="-1" strike="noStrike">
                <a:solidFill>
                  <a:srgbClr val="000000"/>
                </a:solidFill>
                <a:latin typeface="Calibri"/>
              </a:rPr>
              <a:t>:Actualmente en la ciudad de Valencia,tenemos más de 50 polideportivos.</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A parte,contamos con 2 equipos de fútbol de primera división (Valencia y Levante).</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En nuestro barrio,tenemos dos polideportivos y muchas zonas deportivas por todo el paseo marítimo.</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Que deporte realizáis vosotro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428760"/>
            <a:ext cx="6400800" cy="6215040"/>
          </a:xfrm>
          <a:prstGeom prst="rect">
            <a:avLst/>
          </a:prstGeom>
          <a:noFill/>
          <a:ln w="0">
            <a:noFill/>
          </a:ln>
        </p:spPr>
        <p:txBody>
          <a:bodyPr anchor="t">
            <a:noAutofit/>
          </a:bodyPr>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a:t>
            </a:r>
            <a:r>
              <a:rPr b="0" lang="es-ES" sz="2800" spc="-1" strike="noStrike">
                <a:solidFill>
                  <a:srgbClr val="000000"/>
                </a:solidFill>
                <a:latin typeface="Calibri"/>
              </a:rPr>
              <a:t>:¿Y aparte de todo lo que hay en la ciudad,que predomina en vuestro barri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5)·Sheila</a:t>
            </a:r>
            <a:r>
              <a:rPr b="0" lang="es-ES" sz="2800" spc="-1" strike="noStrike">
                <a:solidFill>
                  <a:srgbClr val="000000"/>
                </a:solidFill>
                <a:latin typeface="Calibri"/>
              </a:rPr>
              <a:t>:Nuestro barrio era un barrio de pescadores,las casas se hacían para que los pescadores habitaran,por eso algunas son pequeñas. El mayor placer de nuestro barrio es que tenemos la playa a primera línea. En nuestro barrio hay mucha variedad de servicios públicos. Tenemos cuatro colegios,tenemos un médico y un hospital y desde nuestro instituto se ve el mar,hay un polideportivo, un museo y dos iglesias. También hay zonas ajardinadas y parques. Nuestro barrio tiene muchas cosas para ver.</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520" y="144360"/>
            <a:ext cx="8404200" cy="625500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Valencia cuenta con alguna zona que esté muy visitada?</a:t>
            </a:r>
            <a:endParaRPr b="0" lang="en-US" sz="28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6)·Clara</a:t>
            </a:r>
            <a:r>
              <a:rPr b="0" lang="es-ES" sz="2800" spc="-1" strike="noStrike">
                <a:solidFill>
                  <a:srgbClr val="000000"/>
                </a:solidFill>
                <a:latin typeface="Calibri"/>
              </a:rPr>
              <a:t>:El jardín del Túria es muy famoso en Valencia y es uno de los parques más visitados de España,tanto por su historia como por su aspecto. Se fundó en 1986 varios decenios de la Valencia. En su momento,se propusieron hacer diversos proyectos en ese territorio,pero tras el movimiento ciudadano </a:t>
            </a:r>
            <a:r>
              <a:rPr b="1" lang="es-ES" sz="2800" spc="-1" strike="noStrike">
                <a:solidFill>
                  <a:srgbClr val="000000"/>
                </a:solidFill>
                <a:latin typeface="Calibri"/>
              </a:rPr>
              <a:t>"El riu es nostre y el volem verd"</a:t>
            </a:r>
            <a:r>
              <a:rPr b="0" lang="es-ES" sz="2800" spc="-1" strike="noStrike">
                <a:solidFill>
                  <a:srgbClr val="000000"/>
                </a:solidFill>
                <a:latin typeface="Calibri"/>
              </a:rPr>
              <a:t>(El río es nuestro y lo queremos verde) se decidieron a emplearlo como lugar de ocio y naturaleza para los ciudadanos y visitantes.</a:t>
            </a: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El Jardín del Túria posee numerosos puentes,algunos con más de cinco siglos de antigüedad.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87280"/>
            <a:ext cx="8229600" cy="6480360"/>
          </a:xfrm>
          <a:prstGeom prst="rect">
            <a:avLst/>
          </a:prstGeom>
          <a:noFill/>
          <a:ln w="0">
            <a:noFill/>
          </a:ln>
        </p:spPr>
        <p:style>
          <a:lnRef idx="0"/>
          <a:fillRef idx="0"/>
          <a:effectRef idx="0"/>
          <a:fontRef idx="minor"/>
        </p:style>
        <p:txBody>
          <a:bodyPr anchor="t">
            <a:noAutofit/>
          </a:bodyPr>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eso que se ve allá al fondo azul,Que es?</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7)·Ainhoa</a:t>
            </a:r>
            <a:r>
              <a:rPr b="0" lang="es-ES" sz="2400" spc="-1" strike="noStrike">
                <a:solidFill>
                  <a:srgbClr val="000000"/>
                </a:solidFill>
                <a:latin typeface="Calibri"/>
              </a:rPr>
              <a:t>:Eso es la playa,es decir que parte del agua del mar baña un trozo de esta extensión. Notodas las ciudades y países tienes cerca el mar,y por eso tenemos suerte de tenerla al lado de nuestros institutos y colegios cercanos de hecho una de las cosas más bonitas de Valencia es la playa.La playa tiene el paseo marítimo donde la gente se pasea y compra regalitos en los puestos de verano.</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relacionado con la comida.Como es la gastronomía valenciana?</a:t>
            </a:r>
            <a:endParaRPr b="0" lang="en-US" sz="24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8)·Jose:</a:t>
            </a:r>
            <a:r>
              <a:rPr b="0" lang="es-ES" sz="2400" spc="-1" strike="noStrike">
                <a:solidFill>
                  <a:srgbClr val="000000"/>
                </a:solidFill>
                <a:latin typeface="Calibri"/>
              </a:rPr>
              <a:t>La gastronomía de Valencia se encuentra dentro de una dieta mediterránea debido al uso de aceite de oliva,verduras y pescado.Existen diferencias entre cocina la cocina,en zonas costaleras el pescado y la verduras tienen una gran importancia y en el interior es una cocina más rústica y se emplea más la carne.El arroz es muy importante en la cocina Valenciana se emplea desde la época musulmana y es el principal ingrediente de su plato más internaciona</a:t>
            </a:r>
            <a:r>
              <a:rPr b="0" lang="es-ES" sz="2800" spc="-1" strike="noStrike">
                <a:solidFill>
                  <a:srgbClr val="000000"/>
                </a:solidFill>
                <a:latin typeface="Calibri"/>
              </a:rPr>
              <a:t>l:La paella</a:t>
            </a:r>
            <a:r>
              <a:rPr b="0" lang="es-ES" sz="2200" spc="-1" strike="noStrike">
                <a:solidFill>
                  <a:srgbClr val="000000"/>
                </a:solidFill>
                <a:latin typeface="Calibri"/>
              </a:rPr>
              <a:t>.</a:t>
            </a:r>
            <a:endParaRPr b="0" lang="en-US" sz="2200" spc="-1" strike="noStrike">
              <a:solidFill>
                <a:srgbClr val="000000"/>
              </a:solidFill>
              <a:latin typeface="Arial"/>
            </a:endParaRPr>
          </a:p>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396720"/>
            <a:ext cx="8229600" cy="6083280"/>
          </a:xfrm>
          <a:prstGeom prst="rect">
            <a:avLst/>
          </a:prstGeom>
          <a:noFill/>
          <a:ln w="0">
            <a:noFill/>
          </a:ln>
        </p:spPr>
        <p:txBody>
          <a:bodyPr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600" spc="-1" strike="noStrike">
                <a:solidFill>
                  <a:srgbClr val="000000"/>
                </a:solidFill>
                <a:latin typeface="Calibri"/>
              </a:rPr>
              <a:t>Principito: </a:t>
            </a:r>
            <a:r>
              <a:rPr b="0" lang="es-ES" sz="2600" spc="-1" strike="noStrike">
                <a:solidFill>
                  <a:srgbClr val="000000"/>
                </a:solidFill>
                <a:latin typeface="Calibri"/>
              </a:rPr>
              <a:t>Y que fiestas tenéis en Valencia?</a:t>
            </a:r>
            <a:br>
              <a:rPr sz="2600"/>
            </a:br>
            <a:br>
              <a:rPr sz="2600"/>
            </a:br>
            <a:r>
              <a:rPr b="1" lang="es-ES" sz="2600" spc="-1" strike="noStrike">
                <a:solidFill>
                  <a:srgbClr val="000000"/>
                </a:solidFill>
                <a:latin typeface="Calibri"/>
              </a:rPr>
              <a:t>9)·Andrea:</a:t>
            </a:r>
            <a:r>
              <a:rPr b="0" lang="es-ES" sz="2600" spc="-1" strike="noStrike">
                <a:solidFill>
                  <a:srgbClr val="000000"/>
                </a:solidFill>
                <a:latin typeface="Calibri"/>
              </a:rPr>
              <a:t>Aquí en Valencia,tenemos algunas fiestas que son autóctonas. Las fallas son las más conocidas y,se realizan en honor al patrón de la ciudad. Se colocan unos monumentos en las calles hechos de cartón,madera y otros materiales que se queman el 19 de marzo.La Semana Santa Marinera. Son procesiones con gente que se visten con túnicas y otros de romanos,vírgenes,santos...Acompañados siempre por bandas musicales. La Pascua es la semana siguiente a Semana Santa, y es típico volar la cometa y comer un dulce llamado mona de pascua. El nou d'Octubre,es el día que se celebra la llegada de Jaume l a Valencia,se hacen actividades en su honor y se come la mocaora. Los Moros y Cristianos,es una fiesta en la cual se representa la Reconquista de Valencia de los dominios musulmanes.</a:t>
            </a:r>
            <a:br>
              <a:rPr sz="4400"/>
            </a:b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4-17T23:41:52Z</dcterms:modified>
  <cp:revision>2</cp:revision>
  <dc:subject/>
  <dc:title>El principito en Val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Presentación en pantalla (4:3)</vt:lpwstr>
  </property>
  <property fmtid="{D5CDD505-2E9C-101B-9397-08002B2CF9AE}" pid="8" name="ScaleCrop">
    <vt:bool>0</vt:bool>
  </property>
  <property fmtid="{D5CDD505-2E9C-101B-9397-08002B2CF9AE}" pid="9" name="ShareDoc">
    <vt:bool>0</vt:bool>
  </property>
  <property fmtid="{D5CDD505-2E9C-101B-9397-08002B2CF9AE}" pid="10" name="Slides">
    <vt:r8>5</vt:r8>
  </property>
</Properties>
</file>