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7E3D-380A-48D6-A0CD-D62C3432D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CEDC-D538-44AF-9FAA-DFE19D7C9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07E1-AB72-4013-BF4F-77D2D1E51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136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944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136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944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1A90-E604-420B-B916-75392DBA7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A66C-1F8C-48A6-B2FF-2A9B8C2CE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F997-A2C6-4386-BB98-32AC0B0D2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0614-934D-48D6-9F3F-7BC63F804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8975-AF47-4391-9980-DBA6880AA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4F0F-BE44-4A44-8086-1C26185FA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3AAF-B73C-466B-BFD9-4C23793C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8A23-A48E-4563-9F29-4AA8AE884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FB44-0002-4099-8CD6-3557E0EE8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A23211-0FE3-4AC7-A7E5-DE8869EFFD0F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Mi libro favorito: Robinson Cruso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25120"/>
            <a:ext cx="8869320" cy="5402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utor:Daniel Defo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ditorial:W. Tayl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oyecto Multilateral Comenius: ‘¿Qué lees?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ES Isabel de Ville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ofesor: José Andrés Mol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lumno:Daniel Gomez Fer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Grupo:3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obinson Crus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63640" y="2016000"/>
            <a:ext cx="849636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 un libro de Daniel Defoe y se publicó en 1919 .Es la autobiografía de un marinero que naufragó y que estuvo 28 años en una isla intentando sobrevivir con lo que había en la isla y el libro narra sus aventuras en la is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49640" y="2986200"/>
            <a:ext cx="5238720" cy="42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rgu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543096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obinson Crusoe es un marinero que, en una expedición por África su barco naufraga y es el único superviviente,llega a la isla y es el único habitante. Para sobrevivir, toma  armas y provisiones del barco que necesita, a la espera de ser rescatad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664000" y="3308400"/>
            <a:ext cx="446400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rgumen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1280" y="1584360"/>
            <a:ext cx="92156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uando por fin empieza a adaptarse a la soledad  e instalarse en la isla, descubre que no está solo en ella, ya que una tribu indígena caníbal reside allí. Crusoe inmediatamente considera a los indígenas como enemigos, y ayuda a escapar uno de sus prisioneros que estaba a punto de ser ejecutado. Como se han conocido un viernes, Crusoe le llama “Viernes” y se hacen amigos. Juntos deciden ayudar a los demás prisioneros capturados por los indígenas. Despues les encuentra un barco y finalmente salen de la is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81440" y="3959280"/>
            <a:ext cx="284148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ersonaj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63640" y="1728720"/>
            <a:ext cx="47512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obinson Crusoe es el protagonista es un marinero de Inglaterra que un dia su barco se hundió y tuvo que vivir 25 años en una isla intentando sobrevivi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 el otro protagonista es Viernes que es uno al que se intentaron comer,Robinson Crusoe lo rescata y se hacen amigos. Tambien hay otros personajes pero no son importantes en la histo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905440" y="1511280"/>
            <a:ext cx="3454560" cy="453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xito del lib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36720" y="2160720"/>
            <a:ext cx="856764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libro tuvo mucho éxito y fue en aquella época el segundo libro más leido y el más traducido y en la vida real hay una isla que se le llama Robinson Crusoe por el éxito del libro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320920" y="3097080"/>
            <a:ext cx="5238720" cy="410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pinión pers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92000" y="1871640"/>
            <a:ext cx="84232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 mi el libro me gusta porque es interesante, a mi me ha gustado mucho porque es de aventuras y está muy bi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303640" y="2808360"/>
            <a:ext cx="5040000" cy="45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440000" y="1600200"/>
            <a:ext cx="7034040" cy="4087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2T12:51:33Z</dcterms:created>
  <dc:creator>villena3ac03 villena3ac03</dc:creator>
  <dc:description/>
  <dc:language>en-US</dc:language>
  <cp:lastModifiedBy>villena3ac03 villena3ac03</cp:lastModifiedBy>
  <dcterms:modified xsi:type="dcterms:W3CDTF">2013-12-16T13:10:52Z</dcterms:modified>
  <cp:revision>12</cp:revision>
  <dc:subject/>
  <dc:title/>
</cp:coreProperties>
</file>