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FC1-E7C4-46F3-838A-A87142A5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210-DB26-416F-89CF-CD8450B5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0CB-6876-47F6-BC45-A9B39F0F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689-5346-490E-8B31-4B3654AD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077-0DF4-43C1-8FA8-F6289A96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D2E-7F8B-4062-95F6-A9E00066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08C-08ED-47D8-A8E1-04383152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65D-971D-4E82-B223-241DE020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A23-8C3B-4B4A-8EB5-179F8C17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E28-4264-4CF4-BEC0-35F777FE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643-B745-4AD1-9F36-C17972D1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801-75AD-4305-8930-EB894C48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B98F2-28CF-40B3-883D-18D7869694F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 libro favorito: Robinson Crus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25120"/>
            <a:ext cx="8869320" cy="540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tor:Daniel Def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ditorial:W. Tay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o:Daniel Gomez Fe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binson Crus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3640" y="2016000"/>
            <a:ext cx="84963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 libro de Daniel Defoe y se publicó en 1919 .Es la autobiografía de un marinero que naufragó y que estuvo 28 años en una isla intentando sobrevivir con lo que había en la isla y el libro narra sus aventuras en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49640" y="2986200"/>
            <a:ext cx="523872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un marinero que, en una expedición por África su barco naufraga y es el único superviviente,llega a la isla y es el único habitante. Para sobrevivir, toma  armas y provisiones del barco que necesita, a la espera de ser resca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4000" y="3308400"/>
            <a:ext cx="4464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280" y="1584360"/>
            <a:ext cx="921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por fin empieza a adaptarse a la soledad  e instalarse en la isla, descubre que no está solo en ella, ya que una tribu indígena caníbal reside allí. Crusoe inmediatamente considera a los indígenas como enemigos, y ayuda a escapar uno de sus prisioneros que estaba a punto de ser ejecutado. Como se han conocido un viernes, Crusoe le llama “Viernes” y se hacen amigos. Juntos deciden ayudar a los demás prisioneros capturados por los indígenas. Despues les encuentra un barco y finalmente salen de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81440" y="3959280"/>
            <a:ext cx="28414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j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3640" y="1728720"/>
            <a:ext cx="47512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el protagonista es un marinero de Inglaterra que un dia su barco se hundió y tuvo que vivir 25 años en una isla intentando sobreviv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l otro protagonista es Viernes que es uno al que se intentaron comer,Robinson Crusoe lo rescata y se hacen amigos. Tambien hay otros personajes pero no son importantes en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05440" y="1511280"/>
            <a:ext cx="34545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ito del li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6720" y="2160720"/>
            <a:ext cx="8567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ibro tuvo mucho éxito y fue en aquella época el segundo libro más leido y el más traducido y en la vida real hay una isla que se le llama Robinson Crusoe por el éxito del libr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20920" y="3097080"/>
            <a:ext cx="523872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inión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000" y="1871640"/>
            <a:ext cx="8423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mi el libro me gusta porque es interesante, a mi me ha gustado mucho porque es de aventuras y está muy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03640" y="2808360"/>
            <a:ext cx="50400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0000" y="1600200"/>
            <a:ext cx="7034040" cy="408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2:51:33Z</dcterms:created>
  <dc:creator>villena3ac03 villena3ac03</dc:creator>
  <dc:description/>
  <dc:language>en-US</dc:language>
  <cp:lastModifiedBy>villena3ac03 villena3ac03</cp:lastModifiedBy>
  <dcterms:modified xsi:type="dcterms:W3CDTF">2013-12-16T13:10:52Z</dcterms:modified>
  <cp:revision>12</cp:revision>
  <dc:subject/>
  <dc:title/>
</cp:coreProperties>
</file>