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D71-5211-4F6B-8614-ABE7FEB9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DEB-DD79-4854-A429-29D83674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F9F-E375-4A01-9A30-8708362C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92E-E99D-4632-B06E-84190F6D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902-74F3-4A57-8DAA-544698C5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681-3952-4DC7-81BB-6E714DB2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903-5338-486D-8BB5-D7E5F653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9C7-0897-4325-B637-7E634723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C5F-692C-4660-9EC5-9E256C98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AFB-9C3C-4C47-A0BA-F6CC0C23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982-5A10-4B47-BEB6-A44D3E31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821-5D3B-41F5-B63F-F7EA47CE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F2F16-B63F-4B93-9A28-3E0CEAC3713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i libro favorito: Robinson Cruso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25120"/>
            <a:ext cx="8869320" cy="540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tor:Daniel Def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ditorial:W. Tay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o:Daniel Gomez Fe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upo: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binson Crus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3640" y="2016000"/>
            <a:ext cx="84963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un libro de Daniel Defoe y se publicó en 1919 .Es la autobiografía de un marinero que naufragó y que estuvo 28 años en una isla intentando sobrevivir con lo que había en la isla y el libro narra sus aventuras en la is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49640" y="2986200"/>
            <a:ext cx="5238720" cy="42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54309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inson Crusoe es un marinero que, en una expedición por África su barco naufraga y es el único superviviente,llega a la isla y es el único habitante. Para sobrevivir, toma  armas y provisiones del barco que necesita, a la espera de ser rescat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4000" y="3308400"/>
            <a:ext cx="4464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gu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280" y="1584360"/>
            <a:ext cx="921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por fin empieza a adaptarse a la soledad  e instalarse en la isla, descubre que no está solo en ella, ya que una tribu indígena caníbal reside allí. Crusoe inmediatamente considera a los indígenas como enemigos, y ayuda a escapar uno de sus prisioneros que estaba a punto de ser ejecutado. Como se han conocido un viernes, Crusoe le llama “Viernes” y se hacen amigos. Juntos deciden ayudar a los demás prisioneros capturados por los indígenas. Despues les encuentra un barco y finalmente salen de la is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81440" y="3959280"/>
            <a:ext cx="28414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sonaj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3640" y="1728720"/>
            <a:ext cx="47512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inson Crusoe es el protagonista es un marinero de Inglaterra que un dia su barco se hundió y tuvo que vivir 25 años en una isla intentando sobreviv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el otro protagonista es Viernes que es uno al que se intentaron comer,Robinson Crusoe lo rescata y se hacen amigos. Tambien hay otros personajes pero no son importantes en la h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05440" y="1511280"/>
            <a:ext cx="34545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ito del lib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6720" y="2160720"/>
            <a:ext cx="8567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libro tuvo mucho éxito y fue en aquella época el segundo libro más leido y el más traducido y en la vida real hay una isla que se le llama Robinson Crusoe por el éxito del libr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20920" y="3097080"/>
            <a:ext cx="523872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inión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000" y="1871640"/>
            <a:ext cx="8423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mi el libro me gusta porque es interesante, a mi me ha gustado mucho porque es de aventuras y está muy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03640" y="2808360"/>
            <a:ext cx="504000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0000" y="1600200"/>
            <a:ext cx="7034040" cy="408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2:51:33Z</dcterms:created>
  <dc:creator>villena3ac03 villena3ac03</dc:creator>
  <dc:description/>
  <dc:language>en-US</dc:language>
  <cp:lastModifiedBy>villena3ac03 villena3ac03</cp:lastModifiedBy>
  <dcterms:modified xsi:type="dcterms:W3CDTF">2013-12-16T13:10:52Z</dcterms:modified>
  <cp:revision>12</cp:revision>
  <dc:subject/>
  <dc:title/>
</cp:coreProperties>
</file>