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A8816-7F13-40E1-B97D-F01D5B26EFF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8DFEB-F983-4B71-8F11-01E390A5F1A1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FD43-44C5-4D1C-8316-2D38C1DD91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62A1-FD0D-45EE-85B7-170179ED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1399-7409-451C-A02B-83222E86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EBA1-6974-4F4A-9768-78BE2DDF46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83DF5-C53D-4418-A7C4-34FC43619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99639-86D2-4E9D-A8A1-62906985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5821C-AB6C-4B7E-A193-C022ED04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5088A-3A13-417E-BF39-A23714F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736A0-82A7-41D8-A782-C8ADEE26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0B1E8-08A9-42CF-BEF3-20E8CC58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E20AE-383A-4D09-AD3E-9E339DC2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C9D2-86A1-4583-99D2-DE560FA1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8474B-F33E-4711-B541-0DF2598D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F4E17-0DB0-471B-9998-47CB8252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5C1A9-2A25-4066-AFDD-C45AD1C1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6E2E8-B0B2-4C4A-BC3E-F205358E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8BE21-32FF-4CCF-94BF-D1F27799DD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26537-882F-453B-A3DC-B56E75BC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C106-C491-4465-9FDF-B5D780F4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722B-50F4-4923-8359-53B708AB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2067-527D-4893-BF3A-DEC4E5E1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6115-024B-444B-A3FD-3B3CFE5F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4A3F-BB9D-4F28-8A23-0F16EBA5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FCA2-088F-4F2B-AC1E-F3E76ED3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60702-811A-4CCF-8970-16AA12DF8C4D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5E45F-4050-4A61-A53B-612E9E4F7846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F1F87-098B-4E87-8312-4195947CC5EA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F8D2E-99E2-401B-A420-54D7337745A2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8800" spc="-1" strike="noStrike" u="sng">
                <a:solidFill>
                  <a:srgbClr val="000000"/>
                </a:solidFill>
                <a:uFillTx/>
                <a:latin typeface="Calibri"/>
              </a:rPr>
              <a:t>SOPHIE</a:t>
            </a:r>
            <a:br>
              <a:rPr sz="8800"/>
            </a:br>
            <a:r>
              <a:rPr b="1" i="1" lang="es-ES" sz="8800" spc="-1" strike="noStrike" u="sng">
                <a:solidFill>
                  <a:srgbClr val="000000"/>
                </a:solidFill>
                <a:uFillTx/>
                <a:latin typeface="Calibri"/>
              </a:rPr>
              <a:t>GERMA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71840" y="2500200"/>
            <a:ext cx="40003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71840" y="2571840"/>
            <a:ext cx="3929040" cy="307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14760" y="6000840"/>
            <a:ext cx="4000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DE ABRIL 1776 – 27 DE JUNIO DE 18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12920" y="6127560"/>
            <a:ext cx="43034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2920" y="1571760"/>
            <a:ext cx="5572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B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4200" y="2643120"/>
            <a:ext cx="5572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CONTRIB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5840" y="4143240"/>
            <a:ext cx="5786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7120" y="5572080"/>
            <a:ext cx="41436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86160" y="1000080"/>
            <a:ext cx="4643640" cy="221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57120" y="1928880"/>
            <a:ext cx="278928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32480" y="4554360"/>
            <a:ext cx="3375000" cy="1743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71720" y="714240"/>
            <a:ext cx="64292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953735"/>
                </a:solidFill>
                <a:latin typeface="Calibri"/>
              </a:rPr>
              <a:t>                  </a:t>
            </a:r>
            <a:r>
              <a:rPr b="1" lang="es-ES" sz="3600" spc="-1" strike="noStrike">
                <a:solidFill>
                  <a:srgbClr val="953735"/>
                </a:solidFill>
                <a:latin typeface="Calibri"/>
              </a:rPr>
              <a:t>BIBLIOGRAF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1714680"/>
            <a:ext cx="871560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- Sophie nació en una familia francesa en París; comenzó a estudiar matemáticas a los 13 años. Ella fue autodidacta, y se disfrazó de hombre para poder entrar a estudiar en lugares matemático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n sus investigaciones  y  estudios firmaba como “Sr.Leblanc” para ocultar su ident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l señor  Lagrange, supó valorar  su talento en las matemáticas, y a pesar de los prejuicios decidió convertirse en su men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n 1811  participó en un concurso de la Academia Francesa de las Ciencias para explicar los fundamentos matemáticos sobre  las vibraciones de las superficies elásticas; después de ser rechazada 2 veces, en 1816 ganó el concurso y se convirtió en la primera mujer que asistió a aquella Academia, y eso la colocó entre grandes matemáticos de la his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000" y="428760"/>
            <a:ext cx="685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s-ES" sz="4000" spc="-1" strike="noStrike">
                <a:solidFill>
                  <a:srgbClr val="8eb4e3"/>
                </a:solidFill>
                <a:latin typeface="Calibri"/>
              </a:rPr>
              <a:t>   </a:t>
            </a:r>
            <a:r>
              <a:rPr b="1" lang="es-ES" sz="4000" spc="-1" strike="noStrike">
                <a:solidFill>
                  <a:srgbClr val="8eb4e3"/>
                </a:solidFill>
                <a:latin typeface="Calibri"/>
              </a:rPr>
              <a:t>CONTRIBU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1857240"/>
            <a:ext cx="8072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- Una de las mayores contribuciones de Germain a la teoría de los números fue la demostración matemática de la siguiente pro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4000680"/>
            <a:ext cx="8429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ffc000"/>
                </a:solidFill>
                <a:latin typeface="Calibri"/>
              </a:rPr>
              <a:t> </a:t>
            </a:r>
            <a:r>
              <a:rPr b="1" i="1" lang="es-ES" sz="3200" spc="-1" strike="noStrike">
                <a:solidFill>
                  <a:srgbClr val="ffc000"/>
                </a:solidFill>
                <a:latin typeface="Calibri"/>
              </a:rPr>
              <a:t>SI X, Y, Z SON ENTEROS Y X5 + Y5 = Z5, ENTONCES AL MENOS UNO DE ELLOS (X, Y, O Z) ES DIVISIBLE POR CI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8760" y="1214280"/>
            <a:ext cx="792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Una de sus más famosas identidades, más comúmente conocida como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Identidad de Sophie Germain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expresa para dos números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x,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1680" y="3643200"/>
            <a:ext cx="835812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57200" y="571680"/>
            <a:ext cx="6786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70c0"/>
                </a:solidFill>
                <a:latin typeface="Calibri"/>
              </a:rPr>
              <a:t>                    </a:t>
            </a:r>
            <a:r>
              <a:rPr b="1" lang="es-ES" sz="3600" spc="-1" strike="noStrike">
                <a:solidFill>
                  <a:srgbClr val="0070c0"/>
                </a:solidFill>
                <a:latin typeface="Calibri"/>
              </a:rPr>
              <a:t>MUE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760" y="2428920"/>
            <a:ext cx="82864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70c0"/>
                </a:solidFill>
                <a:latin typeface="Calibri"/>
              </a:rPr>
              <a:t>- Sophie Germain murió a causa de un cáncer de mama que le diagnosticaron en 1829  y falleció el 27 de Junio de 18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43040" y="785880"/>
            <a:ext cx="62150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              </a:t>
            </a:r>
            <a:r>
              <a:rPr b="1" lang="es-ES" sz="3600" spc="-1" strike="noStrike">
                <a:solidFill>
                  <a:srgbClr val="00b050"/>
                </a:solidFill>
                <a:latin typeface="Calibri"/>
              </a:rPr>
              <a:t>        </a:t>
            </a:r>
            <a:r>
              <a:rPr b="1" lang="es-ES" sz="3600" spc="-1" strike="noStrike">
                <a:solidFill>
                  <a:srgbClr val="00b050"/>
                </a:solidFill>
                <a:latin typeface="Calibri"/>
              </a:rPr>
              <a:t>LIB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5840" y="2143080"/>
            <a:ext cx="88581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StarSymbo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Sophie  participó, mas bien, un solo libro que f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El último teorema de Ferm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71880" y="3571920"/>
            <a:ext cx="27144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