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A48DB-73D3-4123-9C62-0C50D0445EE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C32D3-0BC5-42E0-BBB4-696A970C640D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58C0-6FDD-4B76-95CC-DB2A77F58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51B2-556B-44B3-A3B1-3844D88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BBC3-2F14-478B-ABE7-2A0D3D1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08D2-39C2-48C3-A37D-746185EB0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EF706-EA10-48E9-832D-EBBFBF546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A1AD0-B2B1-4DEF-B4F3-1B3E39C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7438D-9A7D-49E9-88C9-607EAF1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E121C-D766-4F78-A56A-9A34164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08FBA-EECE-4EE4-AC59-9A160CFF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10E3-57CE-4963-B5E8-6E9422FE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722CA-ADED-456C-AD30-E5C940ED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179D-85F6-46B4-B36F-AA7B4846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E567-4074-4DC2-8538-65132F5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0DD6-5488-423D-B8BF-C2E7615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58F82-6D25-4BFD-A4C4-5DE2528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59D70-DAA6-4C42-9E6A-6EB6C77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7E01-DBB1-4927-8A02-8B232E7B8B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5460-F9DA-4751-B08A-9088CA5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E36C-B37B-4AB9-A44B-E84C202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8FCE-3ACD-4F96-987A-A8BA366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60B6-0E85-4025-8ABF-79765B5A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C44A-C1F5-40FA-A171-9276340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A758-4135-4FAB-8CED-2946CC6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A4DC-9014-4B97-AD7F-0E1E0D7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70BD-070B-4D68-816F-6898C6E9D8B0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DAE87-6D0E-4677-BD6C-37518660B516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4407-EF41-49FE-A567-4F298BD077D1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AB6F3-F574-4554-AEF4-291DA2FC77FD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SOPHIE</a:t>
            </a:r>
            <a:br>
              <a:rPr sz="8800"/>
            </a:b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GERMA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71840" y="2500200"/>
            <a:ext cx="40003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71840" y="257184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14760" y="6000840"/>
            <a:ext cx="4000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DE ABRIL 1776 – 27 DE JUNIO DE 18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12920" y="6127560"/>
            <a:ext cx="43034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57176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264312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CONTRIB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5840" y="4143240"/>
            <a:ext cx="5786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5572080"/>
            <a:ext cx="41436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6160" y="1000080"/>
            <a:ext cx="464364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278928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32480" y="4554360"/>
            <a:ext cx="337500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1720" y="714240"/>
            <a:ext cx="64292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                  </a:t>
            </a: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BIBLIOGRAF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1714680"/>
            <a:ext cx="87156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 Sophie nació en una familia francesa en París; comenzó a estudiar matemáticas a los 13 años. Ella fue autodidacta, y se disfrazó de hombre para poder entrar a estudiar en lugares matemático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sus investigaciones  y  estudios firmaba como “Sr.Leblanc” para ocultar su id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l señor  Lagrange, supó valorar  su talento en las matemáticas, y a pesar de los prejuicios decidió convertirse en su m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1811  participó en un concurso de la Academia Francesa de las Ciencias para explicar los fundamentos matemáticos sobre  las vibraciones de las superficies elásticas; después de ser rechazada 2 veces, en 1816 ganó el concurso y se convirtió en la primera mujer que asistió a aquella Academia, y eso la colocó entre grandes matemáticos de l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428760"/>
            <a:ext cx="685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CONTRIBU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1857240"/>
            <a:ext cx="8072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- Una de las mayores contribuciones de Germain a la teoría de los números fue la demostración matemática de la siguiente pro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4000680"/>
            <a:ext cx="842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 </a:t>
            </a: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SI X, Y, Z SON ENTEROS Y X5 + Y5 = Z5, ENTONCES AL MENOS UNO DE ELLOS (X, Y, O Z) ES DIVISIBLE POR CI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8760" y="1214280"/>
            <a:ext cx="792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Una de sus más famosas identidades, más comúmente conocida como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Identidad de Sophie Germain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expresa para dos números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x,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835812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7200" y="571680"/>
            <a:ext cx="6786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                    </a:t>
            </a: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M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2428920"/>
            <a:ext cx="82864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Calibri"/>
              </a:rPr>
              <a:t>- Sophie Germain murió a causa de un cáncer de mama que le diagnosticaron en 1829  y falleció el 27 de Junio de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43040" y="785880"/>
            <a:ext cx="6215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LIB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5840" y="2143080"/>
            <a:ext cx="8858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Sophie  participó, mas bien, un solo libro que f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El último teorema de Ferm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71880" y="3571920"/>
            <a:ext cx="271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