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89BB2-D583-4EED-9015-8C321D481C5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3FE84-A025-4FD5-8A46-D6A322511C75}" type="slidenum">
              <a:rPr b="0" lang="es-E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617E4-6301-42C4-9E26-613D8F0752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B0A3-4001-41BA-8F46-6311072F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CFB50-A23F-4EB3-9054-D6C2CB39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0CA3-B5CB-4022-85F8-6891FFD577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A726E-01BD-4D1B-941A-DECD11924C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539D0-D1C4-4AB8-9DDD-F7A8F116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E8C08-E3D6-437A-9CF3-E0B55911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88742-8263-46D1-B829-040608B9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8454F-F20D-47DB-BE3A-E1A72378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B3EB9-C2E0-43C7-B53F-3057AC7A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288B2-E67D-4BC7-9081-F25ED5AD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48E9-7775-4739-BDB8-431BAD05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9609A-B2BA-4FA5-8780-F5898274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A1DDD-FDF0-425F-BCED-270929A0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24BBE-276B-4021-82E4-788AA426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CD528-716E-49C0-BCE6-95FE7F22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ED715-1499-4C17-8768-BB6893343F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C13BB-4533-4021-9693-94D94993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2165-F341-413A-805E-069E3A22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F637-4DE8-43E1-BA1C-2901422E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1B6A-912A-4E75-A90C-3DB118C0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22510-B8CC-4DF9-B3D8-7050539B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A416B-91B5-43FA-BFAF-F7ADC20E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CF335-575C-4C77-ABC1-0CE863B0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6F8F3-06E6-425D-A5EC-D092E5CFBC37}" type="datetime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C83C5-8EDD-4285-A62B-DADA73129743}" type="slidenum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0000"/>
          </a:bodyPr>
          <a:p>
            <a:pPr marL="30852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AFBD3-0847-4044-B21C-DEEEFE9AB1E0}" type="datetime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D1E18-887C-4E5D-98D0-A86B15DC19ED}" type="slidenum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8800" spc="-1" strike="noStrike" u="sng">
                <a:solidFill>
                  <a:srgbClr val="000000"/>
                </a:solidFill>
                <a:uFillTx/>
                <a:latin typeface="Calibri"/>
              </a:rPr>
              <a:t>SOPHIE</a:t>
            </a:r>
            <a:br>
              <a:rPr sz="8800"/>
            </a:br>
            <a:r>
              <a:rPr b="1" i="1" lang="es-ES" sz="8800" spc="-1" strike="noStrike" u="sng">
                <a:solidFill>
                  <a:srgbClr val="000000"/>
                </a:solidFill>
                <a:uFillTx/>
                <a:latin typeface="Calibri"/>
              </a:rPr>
              <a:t>GERMA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71840" y="2500200"/>
            <a:ext cx="400032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71840" y="2571840"/>
            <a:ext cx="3929040" cy="3071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14760" y="6000840"/>
            <a:ext cx="40003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 DE ABRIL 1776 – 27 DE JUNIO DE 18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12920" y="6127560"/>
            <a:ext cx="43034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2920" y="1571760"/>
            <a:ext cx="5572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- B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4200" y="2643120"/>
            <a:ext cx="5572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- CONTRIBU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5840" y="4143240"/>
            <a:ext cx="5786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-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7120" y="5572080"/>
            <a:ext cx="41436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- LI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286160" y="1000080"/>
            <a:ext cx="4643640" cy="221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57120" y="1928880"/>
            <a:ext cx="2789280" cy="3143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32480" y="4554360"/>
            <a:ext cx="3375000" cy="1743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71720" y="714240"/>
            <a:ext cx="64292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953735"/>
                </a:solidFill>
                <a:latin typeface="Calibri"/>
              </a:rPr>
              <a:t>                  </a:t>
            </a:r>
            <a:r>
              <a:rPr b="1" lang="es-ES" sz="3600" spc="-1" strike="noStrike">
                <a:solidFill>
                  <a:srgbClr val="953735"/>
                </a:solidFill>
                <a:latin typeface="Calibri"/>
              </a:rPr>
              <a:t>BIBLIOGRAF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1714680"/>
            <a:ext cx="871560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- Sophie nació en una familia francesa en París; comenzó a estudiar matemáticas a los 13 años. Ella fue autodidacta, y se disfrazó de hombre para poder entrar a estudiar en lugares matemático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En sus investigaciones  y  estudios firmaba como “Sr.Leblanc” para ocultar su ident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El señor  Lagrange, supó valorar  su talento en las matemáticas, y a pesar de los prejuicios decidió convertirse en su men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En 1811  participó en un concurso de la Academia Francesa de las Ciencias para explicar los fundamentos matemáticos sobre  las vibraciones de las superficies elásticas; después de ser rechazada 2 veces, en 1816 ganó el concurso y se convirtió en la primera mujer que asistió a aquella Academia, y eso la colocó entre grandes matemáticos de la hist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43000" y="428760"/>
            <a:ext cx="6858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s-ES" sz="4000" spc="-1" strike="noStrike">
                <a:solidFill>
                  <a:srgbClr val="8eb4e3"/>
                </a:solidFill>
                <a:latin typeface="Calibri"/>
              </a:rPr>
              <a:t>   </a:t>
            </a:r>
            <a:r>
              <a:rPr b="1" lang="es-ES" sz="4000" spc="-1" strike="noStrike">
                <a:solidFill>
                  <a:srgbClr val="8eb4e3"/>
                </a:solidFill>
                <a:latin typeface="Calibri"/>
              </a:rPr>
              <a:t>CONTRIBU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1857240"/>
            <a:ext cx="80726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- Una de las mayores contribuciones de Germain a la teoría de los números fue la demostración matemática de la siguiente propos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4000680"/>
            <a:ext cx="8429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3200" spc="-1" strike="noStrike">
                <a:solidFill>
                  <a:srgbClr val="ffc000"/>
                </a:solidFill>
                <a:latin typeface="Calibri"/>
              </a:rPr>
              <a:t> </a:t>
            </a:r>
            <a:r>
              <a:rPr b="1" i="1" lang="es-ES" sz="3200" spc="-1" strike="noStrike">
                <a:solidFill>
                  <a:srgbClr val="ffc000"/>
                </a:solidFill>
                <a:latin typeface="Calibri"/>
              </a:rPr>
              <a:t>SI X, Y, Z SON ENTEROS Y X5 + Y5 = Z5, ENTONCES AL MENOS UNO DE ELLOS (X, Y, O Z) ES DIVISIBLE POR CIN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28760" y="1214280"/>
            <a:ext cx="7929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Una de sus más famosas identidades, más comúmente conocida como </a:t>
            </a:r>
            <a:r>
              <a:rPr b="0" i="1" lang="es-ES" sz="2800" spc="-1" strike="noStrike">
                <a:solidFill>
                  <a:srgbClr val="ff0000"/>
                </a:solidFill>
                <a:latin typeface="Calibri"/>
              </a:rPr>
              <a:t>Identidad de Sophie Germain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 expresa para dos números </a:t>
            </a:r>
            <a:r>
              <a:rPr b="0" i="1" lang="es-ES" sz="2800" spc="-1" strike="noStrike">
                <a:solidFill>
                  <a:srgbClr val="ff0000"/>
                </a:solidFill>
                <a:latin typeface="Calibri"/>
              </a:rPr>
              <a:t>x,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i="1" lang="es-ES" sz="2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 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1680" y="3643200"/>
            <a:ext cx="8358120" cy="15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57200" y="571680"/>
            <a:ext cx="6786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70c0"/>
                </a:solidFill>
                <a:latin typeface="Calibri"/>
              </a:rPr>
              <a:t>                    </a:t>
            </a:r>
            <a:r>
              <a:rPr b="1" lang="es-ES" sz="3600" spc="-1" strike="noStrike">
                <a:solidFill>
                  <a:srgbClr val="0070c0"/>
                </a:solidFill>
                <a:latin typeface="Calibri"/>
              </a:rPr>
              <a:t>MUE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8760" y="2428920"/>
            <a:ext cx="82864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70c0"/>
                </a:solidFill>
                <a:latin typeface="Calibri"/>
              </a:rPr>
              <a:t>- Sophie Germain murió a causa de un cáncer de mama que le diagnosticaron en 1829  y falleció el 27 de Junio de 183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43040" y="785880"/>
            <a:ext cx="62150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              </a:t>
            </a:r>
            <a:r>
              <a:rPr b="1" lang="es-ES" sz="3600" spc="-1" strike="noStrike">
                <a:solidFill>
                  <a:srgbClr val="00b050"/>
                </a:solidFill>
                <a:latin typeface="Calibri"/>
              </a:rPr>
              <a:t>        </a:t>
            </a:r>
            <a:r>
              <a:rPr b="1" lang="es-ES" sz="3600" spc="-1" strike="noStrike">
                <a:solidFill>
                  <a:srgbClr val="00b050"/>
                </a:solidFill>
                <a:latin typeface="Calibri"/>
              </a:rPr>
              <a:t>LIB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5840" y="2143080"/>
            <a:ext cx="88581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StarSymbo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92d050"/>
                </a:solidFill>
                <a:latin typeface="Calibri"/>
              </a:rPr>
              <a:t>Sophie  participó, mas bien, un solo libro que f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92d050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92d050"/>
                </a:solidFill>
                <a:latin typeface="Calibri"/>
              </a:rPr>
              <a:t>El último teorema de Ferm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71880" y="3571920"/>
            <a:ext cx="271440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