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5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FF812-5808-481D-87B7-F38EBA5E0944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B9AAEF-44CE-4100-8B0C-649504E4A273}" type="slidenum">
              <a:rPr b="0" lang="es-E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14BB8-A3BF-4FDE-9F49-6E825B5156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B035B-094F-4635-A08C-508A8778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3E6A8-69F4-40C9-B26F-60496B1D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89E58-29FC-4DA0-8218-52D53F690A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EA364-5C31-4360-BFDF-50BFD75CCA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54BD5-74AA-447C-90CF-3AF77C4D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5DE922-001A-465D-8487-A56CC511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F5601-DD7D-449E-BDBB-921FDBEB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096C0-CCFE-4563-A2B7-AE8C14AD4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E7859-018C-487F-8FA4-04FBE44A6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FEB7D1-4B68-4E04-956F-3CDBF331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54D6E-97FF-48F3-9047-945E728C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C838F-857C-46F0-A5EB-C3388E42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25890-46D9-44D6-A2BC-5FF0A9B8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8E14AC-A379-4D0C-BBE4-19BD056D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89B619-08A7-42E8-9E59-78B71557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36254A-1ED4-4723-83A1-02426F040D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A6EE4-F4B5-4549-946A-61F6774D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A36D5-307B-4F43-B031-B2864BC8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87DAA-5DCE-48DF-AE44-89044D1DA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7689B-7807-4B14-90A2-F9E389D2F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10CEB-8FF4-4304-8FF1-C795FB46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DF336-EBF4-4909-9751-2DF7E7A5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290EE-5760-479A-BD9D-B81213F2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0F53E-DC55-498E-BF88-807D04090A8B}" type="datetime">
              <a:rPr b="0" lang="es-E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EA0AC-69D9-4D80-B969-DFAF8F5E9417}" type="slidenum">
              <a:rPr b="0" lang="es-E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0000"/>
          </a:bodyPr>
          <a:p>
            <a:pPr marL="30852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E8AE5-7168-468A-BE6A-021244769641}" type="datetime">
              <a:rPr b="0" lang="es-E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03A01-0AC4-4DE1-AC2C-169F48FA0727}" type="slidenum">
              <a:rPr b="0" lang="es-E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8800" spc="-1" strike="noStrike" u="sng">
                <a:solidFill>
                  <a:srgbClr val="000000"/>
                </a:solidFill>
                <a:uFillTx/>
                <a:latin typeface="Calibri"/>
              </a:rPr>
              <a:t>SOPHIE</a:t>
            </a:r>
            <a:br>
              <a:rPr sz="8800"/>
            </a:br>
            <a:r>
              <a:rPr b="1" i="1" lang="es-ES" sz="8800" spc="-1" strike="noStrike" u="sng">
                <a:solidFill>
                  <a:srgbClr val="000000"/>
                </a:solidFill>
                <a:uFillTx/>
                <a:latin typeface="Calibri"/>
              </a:rPr>
              <a:t>GERMAI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71840" y="2500200"/>
            <a:ext cx="400032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71840" y="2571840"/>
            <a:ext cx="3929040" cy="3071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714760" y="6000840"/>
            <a:ext cx="40003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 DE ABRIL 1776 – 27 DE JUNIO DE 18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412920" y="6127560"/>
            <a:ext cx="43034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42920" y="1571760"/>
            <a:ext cx="55720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e46c0a"/>
                </a:solidFill>
                <a:latin typeface="Calibri"/>
              </a:rPr>
              <a:t>- BIOGRAF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4200" y="2643120"/>
            <a:ext cx="55720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e46c0a"/>
                </a:solidFill>
                <a:latin typeface="Calibri"/>
              </a:rPr>
              <a:t>- CONTRIBU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5840" y="4143240"/>
            <a:ext cx="57862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e46c0a"/>
                </a:solidFill>
                <a:latin typeface="Calibri"/>
              </a:rPr>
              <a:t>-MUE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7120" y="5572080"/>
            <a:ext cx="414360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e46c0a"/>
                </a:solidFill>
                <a:latin typeface="Calibri"/>
              </a:rPr>
              <a:t>- LIB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286160" y="1000080"/>
            <a:ext cx="4643640" cy="2214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57120" y="1928880"/>
            <a:ext cx="2789280" cy="3143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632480" y="4554360"/>
            <a:ext cx="3375000" cy="1743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071720" y="714240"/>
            <a:ext cx="642924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953735"/>
                </a:solidFill>
                <a:latin typeface="Calibri"/>
              </a:rPr>
              <a:t>                  </a:t>
            </a:r>
            <a:r>
              <a:rPr b="1" lang="es-ES" sz="3600" spc="-1" strike="noStrike">
                <a:solidFill>
                  <a:srgbClr val="953735"/>
                </a:solidFill>
                <a:latin typeface="Calibri"/>
              </a:rPr>
              <a:t>BIBLIOGRAF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4200" y="1714680"/>
            <a:ext cx="871560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alibri"/>
              </a:rPr>
              <a:t>- Sophie nació en una familia francesa en París; comenzó a estudiar matemáticas a los 13 años. Ella fue autodidacta, y se disfrazó de hombre para poder entrar a estudiar en lugares matemático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alibri"/>
              </a:rPr>
              <a:t>En sus investigaciones  y  estudios firmaba como “Sr.Leblanc” para ocultar su ident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alibri"/>
              </a:rPr>
              <a:t>El señor  Lagrange, supó valorar  su talento en las matemáticas, y a pesar de los prejuicios decidió convertirse en su men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alibri"/>
              </a:rPr>
              <a:t>En 1811  participó en un concurso de la Academia Francesa de las Ciencias para explicar los fundamentos matemáticos sobre  las vibraciones de las superficies elásticas; después de ser rechazada 2 veces, en 1816 ganó el concurso y se convirtió en la primera mujer que asistió a aquella Academia, y eso la colocó entre grandes matemáticos de la histó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143000" y="428760"/>
            <a:ext cx="6858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s-ES" sz="4000" spc="-1" strike="noStrike">
                <a:solidFill>
                  <a:srgbClr val="8eb4e3"/>
                </a:solidFill>
                <a:latin typeface="Calibri"/>
              </a:rPr>
              <a:t>   </a:t>
            </a:r>
            <a:r>
              <a:rPr b="1" lang="es-ES" sz="4000" spc="-1" strike="noStrike">
                <a:solidFill>
                  <a:srgbClr val="8eb4e3"/>
                </a:solidFill>
                <a:latin typeface="Calibri"/>
              </a:rPr>
              <a:t>CONTRIBU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4200" y="1857240"/>
            <a:ext cx="807264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- Una de las mayores contribuciones de Germain a la teoría de los números fue la demostración matemática de la siguiente proposi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8760" y="4000680"/>
            <a:ext cx="84294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3200" spc="-1" strike="noStrike">
                <a:solidFill>
                  <a:srgbClr val="ffc000"/>
                </a:solidFill>
                <a:latin typeface="Calibri"/>
              </a:rPr>
              <a:t> </a:t>
            </a:r>
            <a:r>
              <a:rPr b="1" i="1" lang="es-ES" sz="3200" spc="-1" strike="noStrike">
                <a:solidFill>
                  <a:srgbClr val="ffc000"/>
                </a:solidFill>
                <a:latin typeface="Calibri"/>
              </a:rPr>
              <a:t>SI X, Y, Z SON ENTEROS Y X5 + Y5 = Z5, ENTONCES AL MENOS UNO DE ELLOS (X, Y, O Z) ES DIVISIBLE POR CIN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28760" y="1214280"/>
            <a:ext cx="792936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Una de sus más famosas identidades, más comúmente conocida como </a:t>
            </a:r>
            <a:r>
              <a:rPr b="0" i="1" lang="es-ES" sz="2800" spc="-1" strike="noStrike">
                <a:solidFill>
                  <a:srgbClr val="ff0000"/>
                </a:solidFill>
                <a:latin typeface="Calibri"/>
              </a:rPr>
              <a:t>Identidad de Sophie Germain</a:t>
            </a: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 expresa para dos números </a:t>
            </a:r>
            <a:r>
              <a:rPr b="0" i="1" lang="es-ES" sz="2800" spc="-1" strike="noStrike">
                <a:solidFill>
                  <a:srgbClr val="ff0000"/>
                </a:solidFill>
                <a:latin typeface="Calibri"/>
              </a:rPr>
              <a:t>x,</a:t>
            </a: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 </a:t>
            </a:r>
            <a:r>
              <a:rPr b="0" i="1" lang="es-ES" sz="2800" spc="-1" strike="noStrike">
                <a:solidFill>
                  <a:srgbClr val="ff0000"/>
                </a:solidFill>
                <a:latin typeface="Calibri"/>
              </a:rPr>
              <a:t>y</a:t>
            </a: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 q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71680" y="3643200"/>
            <a:ext cx="8358120" cy="15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357200" y="571680"/>
            <a:ext cx="67867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70c0"/>
                </a:solidFill>
                <a:latin typeface="Calibri"/>
              </a:rPr>
              <a:t>                    </a:t>
            </a:r>
            <a:r>
              <a:rPr b="1" lang="es-ES" sz="3600" spc="-1" strike="noStrike">
                <a:solidFill>
                  <a:srgbClr val="0070c0"/>
                </a:solidFill>
                <a:latin typeface="Calibri"/>
              </a:rPr>
              <a:t>MUER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8760" y="2428920"/>
            <a:ext cx="828648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70c0"/>
                </a:solidFill>
                <a:latin typeface="Calibri"/>
              </a:rPr>
              <a:t>- Sophie Germain murió a causa de un cáncer de mama que le diagnosticaron en 1829  y falleció el 27 de Junio de 183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643040" y="785880"/>
            <a:ext cx="621504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  </a:t>
            </a:r>
            <a:r>
              <a:rPr b="1" lang="es-ES" sz="3200" spc="-1" strike="noStrike">
                <a:solidFill>
                  <a:srgbClr val="00b050"/>
                </a:solidFill>
                <a:latin typeface="Calibri"/>
              </a:rPr>
              <a:t>              </a:t>
            </a:r>
            <a:r>
              <a:rPr b="1" lang="es-ES" sz="3600" spc="-1" strike="noStrike">
                <a:solidFill>
                  <a:srgbClr val="00b050"/>
                </a:solidFill>
                <a:latin typeface="Calibri"/>
              </a:rPr>
              <a:t>        </a:t>
            </a:r>
            <a:r>
              <a:rPr b="1" lang="es-ES" sz="3600" spc="-1" strike="noStrike">
                <a:solidFill>
                  <a:srgbClr val="00b050"/>
                </a:solidFill>
                <a:latin typeface="Calibri"/>
              </a:rPr>
              <a:t>LIB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5840" y="2143080"/>
            <a:ext cx="88581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buClr>
                <a:srgbClr val="92d050"/>
              </a:buClr>
              <a:buFont typeface="StarSymbo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92d050"/>
                </a:solidFill>
                <a:latin typeface="Calibri"/>
              </a:rPr>
              <a:t>Sophie  participó, mas bien, un solo libro que f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92d050"/>
                </a:solidFill>
                <a:latin typeface="Calibri"/>
              </a:rPr>
              <a:t>“</a:t>
            </a:r>
            <a:r>
              <a:rPr b="0" lang="es-ES" sz="2400" spc="-1" strike="noStrike">
                <a:solidFill>
                  <a:srgbClr val="92d050"/>
                </a:solidFill>
                <a:latin typeface="Calibri"/>
              </a:rPr>
              <a:t>El último teorema de Ferma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071880" y="3571920"/>
            <a:ext cx="2714400" cy="3286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