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BBE-F53F-40A1-A8D6-A7751C24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6EA-3FD4-4956-A1FC-48110F2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046-CC84-4BB2-A8FD-23E0DA85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4AB-3A93-4B26-983F-6F9C0C8C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3AF-30FE-4AF8-989F-B6147E4A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D75-95C8-4AC6-A806-C094F0D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5D0-F455-484C-A56F-FFA269AB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059-7B80-45F7-9950-DCA24C41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913-D9B2-43D4-B850-FA0447A8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456-2CB9-4E8B-B284-C057081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150-E37F-4EA9-BBFC-723C2BC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010-1297-4D9F-A421-C587418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21B13-53C6-43DB-BDD2-A8DB58B6067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GO GANAS DE 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6840" y="1690560"/>
            <a:ext cx="53546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tor: Federico Mo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ditorial: Planeta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umno: Paula Gallart Alcañ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: 3º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4103640" cy="698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24360" y="1812960"/>
            <a:ext cx="47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go ganas de ti es la segunda novela del escritor italiano Federico Moccia y continuación de la anterior (Tres metros sobre el cielo). Se publicó en 2006 con un considerable éxito de ventas y una inmediata adaptación cinematográfica a cargo del español Luis Pri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7640" y="1539720"/>
            <a:ext cx="8712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s pasar dos años en los guachimontones, Hache vuelve a Totonilco. El recuerdo de Babi le ha acompañado todo este tiempo y teme el momento de reencontrarse con ella. Pronto se da cuenta de que las cosas han cambiado y de que poco a poco tendrá que reconstruir su vida de nuevo en Totonilco: hacer nuevos amigos, conseguir un empleo, empezar una nueva vida...Cuando conoce a Ginebra, una chica alegre y preciosa, parece que podrá enamorarse de nuevo. Pero no es fácil olvidar a Babi y cuando la ve por primera vez siente cómo todo su mundo se tambal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3640" y="287280"/>
            <a:ext cx="5327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240" y="2384280"/>
            <a:ext cx="95756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08000" y="647640"/>
            <a:ext cx="8064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io Casas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go o H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1728720"/>
            <a:ext cx="5184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2000" y="2087640"/>
            <a:ext cx="410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 el protagonista de la película Tras un gran amor con Babi descubre a Gin una chica que le hará sentir cosas inexpl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2360" y="647640"/>
            <a:ext cx="4751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ra Lago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4464000" cy="338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0" y="2303640"/>
            <a:ext cx="4032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chica muy como Hache, cuando se ven sienten casi lo mismo, sustituye a Babi en su vida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28720" y="863640"/>
            <a:ext cx="6983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ría Valverde /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a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000" y="2303640"/>
            <a:ext cx="5256000" cy="39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75280" y="2448000"/>
            <a:ext cx="3888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hica de la cual en tres metros sobre el cielo fué el gran amor de Hache, en este libro cambian muchas co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31640"/>
            <a:ext cx="79200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OPINION PERS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8000" y="1944720"/>
            <a:ext cx="813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opinión sobre este libro es que no me ha encantado ya que para mi opinión Hache me hubiera gustado que se quedara con Babi, pero bueno no ha estado m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000" y="1968480"/>
            <a:ext cx="7343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14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0" spc="-1" strike="noStrike">
                <a:solidFill>
                  <a:srgbClr val="ff9966"/>
                </a:solidFill>
                <a:latin typeface="Arial"/>
              </a:rPr>
              <a:t>F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3:05:34Z</dcterms:created>
  <dc:creator>villena3ac04 villena3ac04</dc:creator>
  <dc:description/>
  <dc:language>en-US</dc:language>
  <cp:lastModifiedBy>villena3ac04 villena3ac04</cp:lastModifiedBy>
  <dcterms:modified xsi:type="dcterms:W3CDTF">2013-12-12T13:22:52Z</dcterms:modified>
  <cp:revision>2</cp:revision>
  <dc:subject/>
  <dc:title/>
</cp:coreProperties>
</file>