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257-B29F-4F63-9950-5476E371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7E7-F960-4022-95C2-9AE6388C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F49-8299-41B6-869B-7C5E5A6C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E34-1610-43A3-8FCC-B52731AA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820-F2AF-496F-BA2A-F7351CB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8B0-0954-4865-99D8-1E41CBC9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E60-F4E1-4921-8E59-067DBF21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648-2F36-4DAB-91AA-E34E4168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3C2-FBAC-49F5-BEF1-A88AB050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D18-EE26-4D4D-9667-9241341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CBC-E57B-46B3-A70D-554507A1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8CB-B2FD-4B93-A083-8D305DC2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DF598-ECE8-4BAF-844C-0B22B8085FE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GO GANAS DE 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6840" y="1690560"/>
            <a:ext cx="53546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tor: Federico Moc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ditorial: Planeta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umno: Paula Gallart Alcañ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upo: 3º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4103640" cy="698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24360" y="1812960"/>
            <a:ext cx="47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go ganas de ti es la segunda novela del escritor italiano Federico Moccia y continuación de la anterior (Tres metros sobre el cielo). Se publicó en 2006 con un considerable éxito de ventas y una inmediata adaptación cinematográfica a cargo del español Luis Pri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7640" y="1539720"/>
            <a:ext cx="8712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as pasar dos años en los guachimontones, Hache vuelve a Totonilco. El recuerdo de Babi le ha acompañado todo este tiempo y teme el momento de reencontrarse con ella. Pronto se da cuenta de que las cosas han cambiado y de que poco a poco tendrá que reconstruir su vida de nuevo en Totonilco: hacer nuevos amigos, conseguir un empleo, empezar una nueva vida...Cuando conoce a Ginebra, una chica alegre y preciosa, parece que podrá enamorarse de nuevo. Pero no es fácil olvidar a Babi y cuando la ve por primera vez siente cómo todo su mundo se tambal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3640" y="287280"/>
            <a:ext cx="5327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240" y="2384280"/>
            <a:ext cx="95756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RINCIPA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08000" y="647640"/>
            <a:ext cx="8064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io Casas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ugo o H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1728720"/>
            <a:ext cx="5184720" cy="453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72000" y="2087640"/>
            <a:ext cx="4103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el protagonista de la película Tras un gran amor con Babi descubre a Gin una chica que le hará sentir cosas inexpl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2360" y="647640"/>
            <a:ext cx="4751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lara Lago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4464000" cy="338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72000" y="2303640"/>
            <a:ext cx="4032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chica muy como Hache, cuando se ven sienten casi lo mismo, sustituye a Babi en su vida senti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28720" y="863640"/>
            <a:ext cx="6983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ía Valverde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000" y="2303640"/>
            <a:ext cx="5256000" cy="3958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75280" y="2448000"/>
            <a:ext cx="3888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chica de la cual en tres metros sobre el cielo fué el gran amor de Hache, en este libro cambian muchas cos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431640"/>
            <a:ext cx="79200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PINION PERS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8000" y="1944720"/>
            <a:ext cx="8136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i opinión sobre este libro es que no me ha encantado ya que para mi opinión Hache me hubiera gustado que se quedara con Babi, pero bueno no ha estado 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0000" y="1968480"/>
            <a:ext cx="73436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14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0" spc="-1" strike="noStrike">
                <a:solidFill>
                  <a:srgbClr val="ff9966"/>
                </a:solidFill>
                <a:latin typeface="Arial"/>
              </a:rPr>
              <a:t>F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3:05:34Z</dcterms:created>
  <dc:creator>villena3ac04 villena3ac04</dc:creator>
  <dc:description/>
  <dc:language>en-US</dc:language>
  <cp:lastModifiedBy>villena3ac04 villena3ac04</cp:lastModifiedBy>
  <dcterms:modified xsi:type="dcterms:W3CDTF">2013-12-12T13:22:52Z</dcterms:modified>
  <cp:revision>2</cp:revision>
  <dc:subject/>
  <dc:title/>
</cp:coreProperties>
</file>