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EE34-1979-441B-8A70-F5C9232DC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7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8867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4BD5-41BE-4702-B076-423792361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684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30B2-BF02-4065-B8F5-CFEF28BB5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1360" y="17683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9440" y="17683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1360" y="40579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9440" y="40579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CB95-815B-490C-8442-9D876A19F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93EA-9E30-4A1C-B326-2CA77C088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5576-2D63-4225-9CCC-C97B4B766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565B-0913-4DF9-988F-52DF055DB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76A9-9231-4986-AEDD-83B5099B3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B4D6-44D0-4502-9A42-E04ADF347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57BD-5064-4CF6-B080-0EF045D0F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684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4BCB-2A5C-470F-B055-E7346A870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8867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9FF2-8987-4258-86CD-CC001A915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72BEAF-AD3E-4652-9600-4FF80958ED50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TENGO GANAS DE 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36840" y="1690560"/>
            <a:ext cx="5354640" cy="52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utor: Federico Moc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ditorial: Planeta Interna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royecto Multilateral Comenius: ‘¿Qué lees?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IES Isabel de Ville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rofesor: José Andrés Mol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lumno: Paula Gallart Alcañi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Grupo: 3º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60360" y="360360"/>
            <a:ext cx="4103640" cy="69832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824360" y="1812960"/>
            <a:ext cx="4751280" cy="40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engo ganas de ti es la segunda novela del escritor italiano Federico Moccia y continuación de la anterior (Tres metros sobre el cielo). Se publicó en 2006 con un considerable éxito de ventas y una inmediata adaptación cinematográfica a cargo del español Luis Prie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7640" y="1539720"/>
            <a:ext cx="8712000" cy="54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Tras pasar dos años en los guachimontones, Hache vuelve a Totonilco. El recuerdo de Babi le ha acompañado todo este tiempo y teme el momento de reencontrarse con ella. Pronto se da cuenta de que las cosas han cambiado y de que poco a poco tendrá que reconstruir su vida de nuevo en Totonilco: hacer nuevos amigos, conseguir un empleo, empezar una nueva vida...Cuando conoce a Ginebra, una chica alegre y preciosa, parece que podrá enamorarse de nuevo. Pero no es fácil olvidar a Babi y cuando la ve por primera vez siente cómo todo su mundo se tambale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03640" y="287280"/>
            <a:ext cx="5327640" cy="9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792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6000" spc="-1" strike="noStrike">
                <a:solidFill>
                  <a:srgbClr val="ffffff"/>
                </a:solidFill>
                <a:latin typeface="Arial"/>
              </a:rPr>
              <a:t>ARGUMENT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11240" y="2384280"/>
            <a:ext cx="9575640" cy="28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76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8800" spc="-1" strike="noStrike">
                <a:solidFill>
                  <a:srgbClr val="000000"/>
                </a:solidFill>
                <a:latin typeface="Arial"/>
              </a:rPr>
              <a:t>PERSONAJES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</a:rPr>
              <a:t>PRINCIPALES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008000" y="647640"/>
            <a:ext cx="80647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02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Mario Casas / </a:t>
            </a: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Hugo o H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16000" y="1728720"/>
            <a:ext cx="5184720" cy="45356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472000" y="2087640"/>
            <a:ext cx="410364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Es el protagonista de la película Tras un gran amor con Babi descubre a Gin una chica que le hará sentir cosas inexplicabl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592360" y="647640"/>
            <a:ext cx="475128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02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Clara Lago / </a:t>
            </a: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G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03280" y="1944720"/>
            <a:ext cx="4464000" cy="33894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472000" y="2303640"/>
            <a:ext cx="4032360" cy="20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Una chica muy como Hache, cuando se ven sienten casi lo mismo, sustituye a Babi en su vida sentiment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728720" y="863640"/>
            <a:ext cx="698364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02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María Valverde / </a:t>
            </a: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Bab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16000" y="2303640"/>
            <a:ext cx="5256000" cy="39589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975280" y="2448000"/>
            <a:ext cx="3888000" cy="17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s la chica de la cual en tres metros sobre el cielo fué el gran amor de Hache, en este libro cambian muchas cosa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295280" y="431640"/>
            <a:ext cx="7920000" cy="7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74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OPINION PERSONA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08000" y="1944720"/>
            <a:ext cx="8136000" cy="26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Mi opinión sobre este libro es que no me ha encantado ya que para mi opinión Hache me hubiera gustado que se quedara con Babi, pero bueno no ha estado ma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440000" y="1968480"/>
            <a:ext cx="7343640" cy="292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214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0" spc="-1" strike="noStrike">
                <a:solidFill>
                  <a:srgbClr val="ff9966"/>
                </a:solidFill>
                <a:latin typeface="Arial"/>
              </a:rPr>
              <a:t>FIN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8T13:05:34Z</dcterms:created>
  <dc:creator>villena3ac04 villena3ac04</dc:creator>
  <dc:description/>
  <dc:language>en-US</dc:language>
  <cp:lastModifiedBy>villena3ac04 villena3ac04</cp:lastModifiedBy>
  <dcterms:modified xsi:type="dcterms:W3CDTF">2013-12-12T13:22:52Z</dcterms:modified>
  <cp:revision>2</cp:revision>
  <dc:subject/>
  <dc:title/>
</cp:coreProperties>
</file>