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754B-4AE3-4312-B01E-F969E903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1C6F-DF51-4F9F-8506-1FD48BDC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24F0-B4C2-46BE-801C-978B07FD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E42D-C25C-45CA-AA5E-96D7A33B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77B0-D0A0-4E1B-A20C-14197E2D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63BF-497A-4EF5-9C7D-9DFAFD0D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F027-833F-4EBF-90AE-3079B85B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D43F-F123-4C8C-8A00-F4E344B3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2F7D-A4E0-45ED-A414-0D86BE97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2771-3DCF-4F65-85A4-C1092BCA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9D49-CC31-40B7-A62C-4B9FB940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3214-C117-44CE-8C5C-C4BBBE6E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D696D-6A90-4C0B-A6E1-188E6CC78962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TENGO GANAS DE 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6840" y="1690560"/>
            <a:ext cx="535464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utor: Federico Moc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ditorial: Planeta Inter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yecto Multilateral Comenius: ‘¿Qué lees?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fesor: José Andrés M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umno: Paula Gallart Alcañ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upo: 3º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0360" y="360360"/>
            <a:ext cx="4103640" cy="6983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24360" y="1812960"/>
            <a:ext cx="475128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ngo ganas de ti es la segunda novela del escritor italiano Federico Moccia y continuación de la anterior (Tres metros sobre el cielo). Se publicó en 2006 con un considerable éxito de ventas y una inmediata adaptación cinematográfica a cargo del español Luis Pri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7640" y="1539720"/>
            <a:ext cx="87120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ras pasar dos años en los guachimontones, Hache vuelve a Totonilco. El recuerdo de Babi le ha acompañado todo este tiempo y teme el momento de reencontrarse con ella. Pronto se da cuenta de que las cosas han cambiado y de que poco a poco tendrá que reconstruir su vida de nuevo en Totonilco: hacer nuevos amigos, conseguir un empleo, empezar una nueva vida...Cuando conoce a Ginebra, una chica alegre y preciosa, parece que podrá enamorarse de nuevo. Pero no es fácil olvidar a Babi y cuando la ve por primera vez siente cómo todo su mundo se tambal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03640" y="287280"/>
            <a:ext cx="532764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9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"/>
              </a:rPr>
              <a:t>ARGUME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1240" y="2384280"/>
            <a:ext cx="9575640" cy="28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76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8800" spc="-1" strike="noStrike">
                <a:solidFill>
                  <a:srgbClr val="000000"/>
                </a:solidFill>
                <a:latin typeface="Arial"/>
              </a:rPr>
              <a:t>PERSONAJ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</a:rPr>
              <a:t>PRINCIPAL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08000" y="647640"/>
            <a:ext cx="8064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Mario Casas /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Hugo o H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6000" y="1728720"/>
            <a:ext cx="5184720" cy="4535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472000" y="2087640"/>
            <a:ext cx="410364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 el protagonista de la película Tras un gran amor con Babi descubre a Gin una chica que le hará sentir cosas inexplicab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92360" y="647640"/>
            <a:ext cx="47512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lara Lago /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4464000" cy="3389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472000" y="2303640"/>
            <a:ext cx="403236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chica muy como Hache, cuando se ven sienten casi lo mismo, sustituye a Babi en su vida sentim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28720" y="863640"/>
            <a:ext cx="69836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María Valverde /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Bab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6000" y="2303640"/>
            <a:ext cx="5256000" cy="3958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975280" y="2448000"/>
            <a:ext cx="388800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la chica de la cual en tres metros sobre el cielo fué el gran amor de Hache, en este libro cambian muchas cos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95280" y="431640"/>
            <a:ext cx="7920000" cy="7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OPINION PERSON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08000" y="1944720"/>
            <a:ext cx="813600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i opinión sobre este libro es que no me ha encantado ya que para mi opinión Hache me hubiera gustado que se quedara con Babi, pero bueno no ha estado m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440000" y="1968480"/>
            <a:ext cx="734364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14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0" spc="-1" strike="noStrike">
                <a:solidFill>
                  <a:srgbClr val="ff9966"/>
                </a:solidFill>
                <a:latin typeface="Arial"/>
              </a:rPr>
              <a:t>FI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13:05:34Z</dcterms:created>
  <dc:creator>villena3ac04 villena3ac04</dc:creator>
  <dc:description/>
  <dc:language>en-US</dc:language>
  <cp:lastModifiedBy>villena3ac04 villena3ac04</cp:lastModifiedBy>
  <dcterms:modified xsi:type="dcterms:W3CDTF">2013-12-12T13:22:52Z</dcterms:modified>
  <cp:revision>2</cp:revision>
  <dc:subject/>
  <dc:title/>
</cp:coreProperties>
</file>