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CF7C-7177-4364-B82D-C1F3DF070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D324-F455-4302-ACC9-2D1DD4982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DD73-26AA-4BD3-82D5-2B3AFE158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44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44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677E-316A-40C1-84C9-0A4DB8F2C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2774-E2FA-403C-B0DB-A958DEA3F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4AF7-3E66-4908-A3E8-1D0F839B8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6B12-6E99-48C0-A2DB-092FE20D0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AB4B-295A-4DB6-B3EB-08E79951C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F278-B576-4FBF-B10C-25EA2ED92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D9B3-10DC-4DEB-9E4C-5DE383AF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316B-F7A0-4B46-9244-10495C8C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177B-B975-4702-A6B4-305641C4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B80C76-3FE8-4D53-ACE9-3900E087ABF5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52360" y="2246400"/>
            <a:ext cx="7128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92000" y="401760"/>
            <a:ext cx="6480360" cy="1901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20648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as Vans voladoras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419040" y="2984400"/>
            <a:ext cx="73440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00ff"/>
                </a:solidFill>
                <a:latin typeface="Arial"/>
              </a:rPr>
              <a:t>Proyecto Multilateral Comenius: ‘¿Qué lees?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2440" y="3444840"/>
            <a:ext cx="488628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00ff"/>
                </a:solidFill>
                <a:latin typeface="Arial"/>
              </a:rPr>
              <a:t>IES Isabel de Vill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0360" y="3959280"/>
            <a:ext cx="7878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00ff"/>
                </a:solidFill>
                <a:latin typeface="Arial"/>
              </a:rPr>
              <a:t>Profesor: José Andrés Mol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60720" y="4824360"/>
            <a:ext cx="6119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30120" y="4464000"/>
            <a:ext cx="5500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00ff"/>
                </a:solidFill>
                <a:latin typeface="Arial"/>
              </a:rPr>
              <a:t>Alumna: Natalia Belmonte Gui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1640" y="4964040"/>
            <a:ext cx="56880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00ff"/>
                </a:solidFill>
                <a:latin typeface="Arial"/>
              </a:rPr>
              <a:t>Curso: 2º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608360" y="5111640"/>
            <a:ext cx="496728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41200" y="216000"/>
            <a:ext cx="7391520" cy="3887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111640" y="4390920"/>
            <a:ext cx="468000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87280" y="368280"/>
            <a:ext cx="691200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ffff"/>
                </a:solidFill>
                <a:latin typeface="Arial"/>
              </a:rPr>
              <a:t>Las vans voladoras, son un producto creado para ir cómodo por la calle y si quieres ir más rápido, pulsar un boton e ir volando a cualquier parte donde desee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6440" y="2173320"/>
            <a:ext cx="5832720" cy="19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ffff"/>
                </a:solidFill>
                <a:latin typeface="Arial"/>
              </a:rPr>
              <a:t>Este calzado autopropulsado tiene una goma especial </a:t>
            </a:r>
            <a:r>
              <a:rPr b="0" lang="es-ES" sz="2400" spc="-1" strike="noStrike">
                <a:solidFill>
                  <a:srgbClr val="00ffff"/>
                </a:solidFill>
                <a:latin typeface="Arial"/>
              </a:rPr>
              <a:t>para</a:t>
            </a:r>
            <a:r>
              <a:rPr b="0" lang="es-ES" sz="2600" spc="-1" strike="noStrike">
                <a:solidFill>
                  <a:srgbClr val="00ffff"/>
                </a:solidFill>
                <a:latin typeface="Arial"/>
              </a:rPr>
              <a:t> que cuando produzca las llamas para autropopulsarse no se quemen las zapatill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616720" y="1728720"/>
            <a:ext cx="4248000" cy="5543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63640" y="4851360"/>
            <a:ext cx="34560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ffff"/>
                </a:solidFill>
                <a:latin typeface="Arial"/>
              </a:rPr>
              <a:t>Tienda habitual donde se venden las zapatill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5" idx="3"/>
          </p:cNvCxnSpPr>
          <p:nvPr/>
        </p:nvCxnSpPr>
        <p:spPr>
          <a:xfrm flipV="1">
            <a:off x="4319640" y="4590720"/>
            <a:ext cx="1117800" cy="859680"/>
          </a:xfrm>
          <a:prstGeom prst="straightConnector1">
            <a:avLst/>
          </a:prstGeom>
          <a:ln w="108000">
            <a:solidFill>
              <a:srgbClr val="00ffff"/>
            </a:solidFill>
            <a:round/>
            <a:tailEnd len="med" type="triangle" w="med"/>
          </a:ln>
        </p:spPr>
      </p:cxn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76360" y="576360"/>
            <a:ext cx="590364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n el paquete en el que van las zapatillas, se encuentra un casco, y protecciones por si alguna caida resulta aparatos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1280" y="2232000"/>
            <a:ext cx="58327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También se pueden adquirir cordones de colores diferentes para que no se inflamen al encender las llama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6360" y="3527280"/>
            <a:ext cx="69120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a garantía de las Vans cubren caidas y defectos de fábrica por las zapatill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33600" y="5148360"/>
            <a:ext cx="70563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76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8800" spc="-1" strike="noStrike">
                <a:solidFill>
                  <a:srgbClr val="000000"/>
                </a:solidFill>
                <a:latin typeface="Arial"/>
              </a:rPr>
              <a:t>VAN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44360" y="863640"/>
            <a:ext cx="10152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as de 20.000 personas ya usan las vans autopropuls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079640" y="692280"/>
            <a:ext cx="83516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ffff"/>
                </a:solidFill>
                <a:latin typeface="Arial"/>
              </a:rPr>
              <a:t>Tu tienes el poder de tu forma de caminar, con V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511280" y="6119640"/>
            <a:ext cx="74883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ffff"/>
                </a:solidFill>
                <a:latin typeface="Arial"/>
              </a:rPr>
              <a:t>Tu tienes la opcion de elegir la comodidad con la que caminar, tus</a:t>
            </a:r>
            <a:r>
              <a:rPr b="0" lang="es-E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s-ES" sz="2600" spc="-1" strike="noStrike">
                <a:solidFill>
                  <a:srgbClr val="00ffff"/>
                </a:solidFill>
                <a:latin typeface="Arial"/>
              </a:rPr>
              <a:t>propias aventuras y tu felicida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9T11:22:01Z</dcterms:created>
  <dc:creator>villena2ac01 villena2ac01</dc:creator>
  <dc:description/>
  <dc:language>en-US</dc:language>
  <cp:lastModifiedBy>villena2ac01 villena2ac01</cp:lastModifiedBy>
  <dcterms:modified xsi:type="dcterms:W3CDTF">2014-06-12T11:31:46Z</dcterms:modified>
  <cp:revision>5</cp:revision>
  <dc:subject/>
  <dc:title/>
</cp:coreProperties>
</file>