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EE6-BEC9-4DA0-8210-3101E2CB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ADF-5341-406F-9790-5158580A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4AD-B049-445A-861C-2062A64D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FE3-4982-4407-87F5-1D24E043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12C-5444-499E-BC51-891FB649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D67-113C-4088-992B-1B264E10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6C3-F646-4C54-88CA-A5D4E7B5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EC5-ABDB-4AC1-A1DC-F448F5D2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AD3-B6F7-423C-9694-04B94A11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184-6CA6-4EDF-95F8-4A0194B1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546-0ED7-4E1B-861A-D17B4149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044-149D-4799-937F-8EC45F57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B1F97-22A9-440E-A060-B721BD2E8F5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2360" y="2246400"/>
            <a:ext cx="712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92000" y="401760"/>
            <a:ext cx="6480360" cy="190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s Vans voladora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19040" y="2984400"/>
            <a:ext cx="73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yecto Multilateral Comenius: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2440" y="3444840"/>
            <a:ext cx="4886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3959280"/>
            <a:ext cx="7878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fesor: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720" y="4824360"/>
            <a:ext cx="61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4464000"/>
            <a:ext cx="5500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Alumna: Natalia Belmonte Gu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4964040"/>
            <a:ext cx="5688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urso: 2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08360" y="5111640"/>
            <a:ext cx="4967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200" y="216000"/>
            <a:ext cx="7391520" cy="388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1640" y="439092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7280" y="368280"/>
            <a:ext cx="6912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Las vans voladoras, son un producto creado para ir cómodo por la calle y si quieres ir más rápido, pulsar un boton e ir volando a cualquier parte donde dese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440" y="2173320"/>
            <a:ext cx="583272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Este calzado autopropulsado tiene una goma especial </a:t>
            </a:r>
            <a:r>
              <a:rPr b="0" lang="es-ES" sz="2400" spc="-1" strike="noStrike">
                <a:solidFill>
                  <a:srgbClr val="00ffff"/>
                </a:solidFill>
                <a:latin typeface="Arial"/>
              </a:rPr>
              <a:t>para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 que cuando produzca las llamas para autropopulsarse no se quem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16720" y="1728720"/>
            <a:ext cx="4248000" cy="554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3640" y="4851360"/>
            <a:ext cx="3456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ienda habitual donde se vend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5" idx="3"/>
          </p:cNvCxnSpPr>
          <p:nvPr/>
        </p:nvCxnSpPr>
        <p:spPr>
          <a:xfrm flipV="1">
            <a:off x="4319640" y="4590720"/>
            <a:ext cx="1117800" cy="859680"/>
          </a:xfrm>
          <a:prstGeom prst="straightConnector1">
            <a:avLst/>
          </a:prstGeom>
          <a:ln w="108000">
            <a:solidFill>
              <a:srgbClr val="00ffff"/>
            </a:solidFill>
            <a:round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76360" y="576360"/>
            <a:ext cx="59036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 el paquete en el que van las zapatillas, se encuentra un casco, y protecciones por si alguna caida resulta aparato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280" y="2232000"/>
            <a:ext cx="5832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mbién se pueden adquirir cordones de colores diferentes para que no se inflamen al encender las llam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6360" y="3527280"/>
            <a:ext cx="6912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garantía de las Vans cubren caidas y defectos de fábrica por las zapati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3600" y="5148360"/>
            <a:ext cx="7056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VA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360" y="863640"/>
            <a:ext cx="1015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s de 20.000 personas ya usan las vans autopropul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79640" y="692280"/>
            <a:ext cx="8351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el poder de tu forma de caminar, con V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11280" y="6119640"/>
            <a:ext cx="7488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la opcion de elegir la comodidad con la que caminar, tus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ropias aventuras y tu felic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11:22:01Z</dcterms:created>
  <dc:creator>villena2ac01 villena2ac01</dc:creator>
  <dc:description/>
  <dc:language>en-US</dc:language>
  <cp:lastModifiedBy>villena2ac01 villena2ac01</cp:lastModifiedBy>
  <dcterms:modified xsi:type="dcterms:W3CDTF">2014-06-12T11:31:46Z</dcterms:modified>
  <cp:revision>5</cp:revision>
  <dc:subject/>
  <dc:title/>
</cp:coreProperties>
</file>