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FA32-E2A7-4EC5-840C-EA377DC2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D0EE-22B1-4904-A88E-01C6EBBE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034-53B2-453A-B485-A71609E7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F1C-239D-4340-A8CB-A3E3C599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8965-E33E-46B3-9C62-7467BFEB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610-EF32-4DE6-B095-119EA204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990-3F85-4A2E-9BDB-46414CD0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A7E-9715-4A51-99C0-3006515E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E99-3635-4CD1-AE0D-F702A9FB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CC4-2F04-4DDB-92B3-084235CD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94C-1829-4D0F-A6E6-EE1C31F2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21EB-8800-4E61-B2C1-DE3F0256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1699A-44CF-4280-BD0B-35DDE07C793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2360" y="2246400"/>
            <a:ext cx="7128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92000" y="401760"/>
            <a:ext cx="6480360" cy="1901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s Vans voladora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19040" y="2984400"/>
            <a:ext cx="7344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Proyecto Multilateral Comenius: ‘¿Qué lees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2440" y="3444840"/>
            <a:ext cx="48862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IES Isabel de Vil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360" y="3959280"/>
            <a:ext cx="7878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Profesor: José Andrés Mo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720" y="4824360"/>
            <a:ext cx="61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0120" y="4464000"/>
            <a:ext cx="5500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Alumna: Natalia Belmonte Gu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1640" y="4964040"/>
            <a:ext cx="5688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Curso: 2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08360" y="5111640"/>
            <a:ext cx="49672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1200" y="216000"/>
            <a:ext cx="7391520" cy="388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111640" y="4390920"/>
            <a:ext cx="4680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7280" y="368280"/>
            <a:ext cx="6912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Las vans voladoras, son un producto creado para ir cómodo por la calle y si quieres ir más rápido, pulsar un boton e ir volando a cualquier parte donde dese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6440" y="2173320"/>
            <a:ext cx="583272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Este calzado autopropulsado tiene una goma especial </a:t>
            </a:r>
            <a:r>
              <a:rPr b="0" lang="es-ES" sz="2400" spc="-1" strike="noStrike">
                <a:solidFill>
                  <a:srgbClr val="00ffff"/>
                </a:solidFill>
                <a:latin typeface="Arial"/>
              </a:rPr>
              <a:t>para</a:t>
            </a: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 que cuando produzca las llamas para autropopulsarse no se quemen las zapatil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616720" y="1728720"/>
            <a:ext cx="4248000" cy="5543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63640" y="4851360"/>
            <a:ext cx="3456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Tienda habitual donde se venden las zapatil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5" idx="3"/>
          </p:cNvCxnSpPr>
          <p:nvPr/>
        </p:nvCxnSpPr>
        <p:spPr>
          <a:xfrm flipV="1">
            <a:off x="4319640" y="4590720"/>
            <a:ext cx="1117800" cy="859680"/>
          </a:xfrm>
          <a:prstGeom prst="straightConnector1">
            <a:avLst/>
          </a:prstGeom>
          <a:ln w="108000">
            <a:solidFill>
              <a:srgbClr val="00ffff"/>
            </a:solidFill>
            <a:round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76360" y="576360"/>
            <a:ext cx="59036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n el paquete en el que van las zapatillas, se encuentra un casco, y protecciones por si alguna caida resulta aparato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280" y="2232000"/>
            <a:ext cx="5832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ambién se pueden adquirir cordones de colores diferentes para que no se inflamen al encender las llam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6360" y="3527280"/>
            <a:ext cx="6912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garantía de las Vans cubren caidas y defectos de fábrica por las zapatil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33600" y="5148360"/>
            <a:ext cx="70563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7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800" spc="-1" strike="noStrike">
                <a:solidFill>
                  <a:srgbClr val="000000"/>
                </a:solidFill>
                <a:latin typeface="Arial"/>
              </a:rPr>
              <a:t>VA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4360" y="863640"/>
            <a:ext cx="10152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s de 20.000 personas ya usan las vans autopropuls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79640" y="692280"/>
            <a:ext cx="8351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Tu tienes el poder de tu forma de caminar, con V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11280" y="6119640"/>
            <a:ext cx="7488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Tu tienes la opcion de elegir la comodidad con la que caminar, tus</a:t>
            </a: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propias aventuras y tu felic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9T11:22:01Z</dcterms:created>
  <dc:creator>villena2ac01 villena2ac01</dc:creator>
  <dc:description/>
  <dc:language>en-US</dc:language>
  <cp:lastModifiedBy>villena2ac01 villena2ac01</cp:lastModifiedBy>
  <dcterms:modified xsi:type="dcterms:W3CDTF">2014-06-12T11:31:46Z</dcterms:modified>
  <cp:revision>5</cp:revision>
  <dc:subject/>
  <dc:title/>
</cp:coreProperties>
</file>