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BC4-09B1-4211-89EA-B29F3539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E2F3-60CD-4DAF-BAFB-AC1EEA23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E96D-ACCB-4F02-940E-70979E2B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2750-5110-4E24-B546-A487DA67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E50C-098C-4C73-B9AD-48F61AC5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FD0-94CA-4513-A448-74377E78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DA7-79D4-4E49-A30E-EAA5B782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DC1-4A99-46F8-BF90-0382AD2E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6AA-9AC9-40D2-A138-2322AE6E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AA4-E21C-46BD-B7E3-8A9DDEE7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8CFE-EA80-45B6-96A8-115D6AC5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66A2-9C47-4517-BD8F-528830B0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99ED8-D4E3-469A-BAE8-B3317CB6210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2360" y="2246400"/>
            <a:ext cx="7128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92000" y="401760"/>
            <a:ext cx="6480360" cy="1901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s Vans voladora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19040" y="2984400"/>
            <a:ext cx="7344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Proyecto Multilateral Comenius: ‘¿Qué lees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2440" y="3444840"/>
            <a:ext cx="48862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IES Isabel de Vil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360" y="3959280"/>
            <a:ext cx="7878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Profesor: José Andrés Mo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720" y="4824360"/>
            <a:ext cx="61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0120" y="4464000"/>
            <a:ext cx="5500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Alumna: Natalia Belmonte Gu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1640" y="4964040"/>
            <a:ext cx="5688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Curso: 2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08360" y="5111640"/>
            <a:ext cx="49672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1200" y="216000"/>
            <a:ext cx="7391520" cy="388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111640" y="4390920"/>
            <a:ext cx="4680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7280" y="368280"/>
            <a:ext cx="6912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Las vans voladoras, son un producto creado para ir cómodo por la calle y si quieres ir más rápido, pulsar un boton e ir volando a cualquier parte donde dese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6440" y="2173320"/>
            <a:ext cx="583272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Este calzado autopropulsado tiene una goma especial </a:t>
            </a:r>
            <a:r>
              <a:rPr b="0" lang="es-ES" sz="2400" spc="-1" strike="noStrike">
                <a:solidFill>
                  <a:srgbClr val="00ffff"/>
                </a:solidFill>
                <a:latin typeface="Arial"/>
              </a:rPr>
              <a:t>para</a:t>
            </a: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 que cuando produzca las llamas para autropopulsarse no se quemen las zapatil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616720" y="1728720"/>
            <a:ext cx="4248000" cy="5543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63640" y="4851360"/>
            <a:ext cx="3456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Tienda habitual donde se venden las zapatil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5" idx="3"/>
          </p:cNvCxnSpPr>
          <p:nvPr/>
        </p:nvCxnSpPr>
        <p:spPr>
          <a:xfrm flipV="1">
            <a:off x="4319640" y="4590720"/>
            <a:ext cx="1117800" cy="859680"/>
          </a:xfrm>
          <a:prstGeom prst="straightConnector1">
            <a:avLst/>
          </a:prstGeom>
          <a:ln w="108000">
            <a:solidFill>
              <a:srgbClr val="00ffff"/>
            </a:solidFill>
            <a:round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76360" y="576360"/>
            <a:ext cx="59036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n el paquete en el que van las zapatillas, se encuentra un casco, y protecciones por si alguna caida resulta aparato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280" y="2232000"/>
            <a:ext cx="5832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ambién se pueden adquirir cordones de colores diferentes para que no se inflamen al encender las llam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6360" y="3527280"/>
            <a:ext cx="6912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garantía de las Vans cubren caidas y defectos de fábrica por las zapatil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33600" y="5148360"/>
            <a:ext cx="70563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7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800" spc="-1" strike="noStrike">
                <a:solidFill>
                  <a:srgbClr val="000000"/>
                </a:solidFill>
                <a:latin typeface="Arial"/>
              </a:rPr>
              <a:t>VA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4360" y="863640"/>
            <a:ext cx="10152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s de 20.000 personas ya usan las vans autopropuls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79640" y="692280"/>
            <a:ext cx="8351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Tu tienes el poder de tu forma de caminar, con V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11280" y="6119640"/>
            <a:ext cx="7488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Tu tienes la opcion de elegir la comodidad con la que caminar, tus</a:t>
            </a: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propias aventuras y tu felic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9T11:22:01Z</dcterms:created>
  <dc:creator>villena2ac01 villena2ac01</dc:creator>
  <dc:description/>
  <dc:language>en-US</dc:language>
  <cp:lastModifiedBy>villena2ac01 villena2ac01</cp:lastModifiedBy>
  <dcterms:modified xsi:type="dcterms:W3CDTF">2014-06-12T11:31:46Z</dcterms:modified>
  <cp:revision>5</cp:revision>
  <dc:subject/>
  <dc:title/>
</cp:coreProperties>
</file>