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6DE-8DBC-4F48-BC77-6156C62D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F51-ACB1-4A28-929D-2BC733E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D71-65BA-4BCE-A4AB-2CE3B9DB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D71-B8BD-480C-B36F-6377940C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628-DFFF-47C9-BBDE-B6FF24F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0E0-48A6-44C9-96AF-E78F8587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B10-8227-4096-8DE2-A8644B89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06B-68E3-4976-A5AB-D4FF2AEA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A0B-91C0-49CA-B819-F4B693A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8E6-815F-4B6C-A5B1-B7F0CF1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DC1-438B-4EF2-B61E-6EBBCD1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E77-C047-4015-8CA1-B1E78BE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A4B8F-332A-42A9-9406-B69FDE1DFFD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2360" y="2246400"/>
            <a:ext cx="712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401760"/>
            <a:ext cx="64803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20648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s Vans voladora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2984400"/>
            <a:ext cx="7344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yecto Multilateral Comenius: ‘¿Qué lees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2440" y="3444840"/>
            <a:ext cx="4886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ES Isabel de Vil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3959280"/>
            <a:ext cx="7878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rofesor: José Andrés M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720" y="4824360"/>
            <a:ext cx="61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464000"/>
            <a:ext cx="5500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Alumna: Natalia Belmonte Gu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964040"/>
            <a:ext cx="568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rso: 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360" y="511164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200" y="216000"/>
            <a:ext cx="7391520" cy="388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11640" y="439092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7280" y="368280"/>
            <a:ext cx="6912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Las vans voladoras, son un producto creado para ir cómodo por la calle y si quieres ir más rápido, pulsar un boton e ir volando a cualquier parte donde dese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440" y="2173320"/>
            <a:ext cx="583272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Este calzado autopropulsado tiene una goma especial </a:t>
            </a:r>
            <a:r>
              <a:rPr b="0" lang="es-ES" sz="2400" spc="-1" strike="noStrike">
                <a:solidFill>
                  <a:srgbClr val="00ffff"/>
                </a:solidFill>
                <a:latin typeface="Arial"/>
              </a:rPr>
              <a:t>para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 que cuando produzca las llamas para autropopulsarse no se quem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16720" y="1728720"/>
            <a:ext cx="4248000" cy="5543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3640" y="4851360"/>
            <a:ext cx="345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ienda habitual donde se venden las zapatil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5" idx="3"/>
          </p:cNvCxnSpPr>
          <p:nvPr/>
        </p:nvCxnSpPr>
        <p:spPr>
          <a:xfrm flipV="1">
            <a:off x="4319640" y="4590720"/>
            <a:ext cx="1117800" cy="859680"/>
          </a:xfrm>
          <a:prstGeom prst="straightConnector1">
            <a:avLst/>
          </a:prstGeom>
          <a:ln w="108000">
            <a:solidFill>
              <a:srgbClr val="00ffff"/>
            </a:solidFill>
            <a:round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76360" y="576360"/>
            <a:ext cx="59036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el paquete en el que van las zapatillas, se encuentra un casco, y protecciones por si alguna caida resulta aparato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2232000"/>
            <a:ext cx="583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mbién se pueden adquirir cordones de colores diferentes para que no se inflamen al encender las llam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360" y="3527280"/>
            <a:ext cx="6912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garantía de las Vans cubren caidas y defectos de fábrica por las zapatil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3600" y="5148360"/>
            <a:ext cx="7056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7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360" y="863640"/>
            <a:ext cx="1015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s de 20.000 personas ya usan las vans autopropul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79640" y="692280"/>
            <a:ext cx="8351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el poder de tu forma de caminar, con V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11280" y="6119640"/>
            <a:ext cx="748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Tu tienes la opcion de elegir la comodidad con la que caminar, tus</a:t>
            </a: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ffff"/>
                </a:solidFill>
                <a:latin typeface="Arial"/>
              </a:rPr>
              <a:t>propias aventuras y tu felic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11:22:01Z</dcterms:created>
  <dc:creator>villena2ac01 villena2ac01</dc:creator>
  <dc:description/>
  <dc:language>en-US</dc:language>
  <cp:lastModifiedBy>villena2ac01 villena2ac01</cp:lastModifiedBy>
  <dcterms:modified xsi:type="dcterms:W3CDTF">2014-06-12T11:31:46Z</dcterms:modified>
  <cp:revision>5</cp:revision>
  <dc:subject/>
  <dc:title/>
</cp:coreProperties>
</file>