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B26C-8100-484A-A538-AC60A27D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550D-BE3A-423A-98EC-3B1A8221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761B-5ADD-414D-8FD7-599ADABD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D34D-C149-46A7-8012-4684DB9B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A80C-05B9-4223-82AC-E47391E0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1CF8-BE71-4085-8E0D-AAF7C0DC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3DE6-6524-49B9-ABAC-9386ADF1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73BB-9B40-4634-B9C9-05F1847A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3A12-779E-4042-8BF7-2DD33A91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821C-8524-4545-82A9-1DB3D3F0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380F-210A-4941-B895-E28DAA1E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3385-1E90-46CD-B407-C2532552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0D567-4CA7-4988-8A46-19F4737378CA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3366"/>
                </a:solidFill>
                <a:latin typeface="Arial"/>
              </a:rPr>
              <a:t>El Pijamopa / Zapamop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Proyecto Multilateral Comenius: ‘¿Qué lees?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IES Isabel de Vill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Alumno: Chantal Martí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Grupo: 4º D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 fontScale="48000"/>
          </a:bodyPr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Arial"/>
              </a:rPr>
              <a:t>¡NO PIERDAS TU OPORTUNIDAD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Arial"/>
              </a:rPr>
              <a:t>Y RECUERDA: 2X1 EN ZAPAMOP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Arial"/>
              </a:rPr>
              <a:t>¡COMPRA YA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7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hantigatos S.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88693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3280" y="4059360"/>
            <a:ext cx="886932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33cc66"/>
                </a:solidFill>
                <a:latin typeface="Arial"/>
              </a:rPr>
              <a:t>¿Vas a tener visita y tu hijo no te deja pasar la mop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33cc66"/>
                </a:solidFill>
                <a:latin typeface="Arial"/>
              </a:rPr>
              <a:t>¡Pues aquí tenemos la solución a tu problem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1767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 fontScale="98000"/>
          </a:bodyPr>
          <a:p>
            <a:pPr marL="423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 el Pijamopa para niños, tu hijo puede ayudarte a limpiar mientras juega en el sue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0000" y="2563920"/>
            <a:ext cx="5256000" cy="41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52640" y="1768320"/>
            <a:ext cx="3232080" cy="2090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929200" y="1827360"/>
            <a:ext cx="2565360" cy="1974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4059000"/>
            <a:ext cx="886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y dos modelos, el azul con frutitas y el blanco con un unicornio en med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1880" y="1768320"/>
            <a:ext cx="3873600" cy="438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 para los días más vagos.. ¡Aquí están los zapatos de mopa para ir por tu casa más a gusto que un arbust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3280" y="2604960"/>
            <a:ext cx="4327560" cy="2713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47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ra los perros que más ensucian, también tenemos unos patucos de mop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Hay varios modelos de colores, para todos los gus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olo por esta semana puedes llevarte 2X1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48280" y="1797120"/>
            <a:ext cx="43275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61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¡Con la compra de dos zapamopas podrás llevarte este gorro para que esto no vuelva a pasar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48280" y="1797120"/>
            <a:ext cx="4327560" cy="4327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conseguir estos artículos, solo tienes que llamar al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9028759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cuerda, 2X1 en las Zapamopas, una por 15.95€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+ gastos de enví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ijamopa por 17.99€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+ gastos de enví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los patucos perrunos, 8.90€ el par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+ gastos de enví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1T08:09:05Z</dcterms:created>
  <dc:creator>villena4uno06 villena4uno06</dc:creator>
  <dc:description/>
  <dc:language>en-US</dc:language>
  <cp:lastModifiedBy>villena4uno06 villena4uno06</cp:lastModifiedBy>
  <dcterms:modified xsi:type="dcterms:W3CDTF">2014-05-26T11:28:35Z</dcterms:modified>
  <cp:revision>5</cp:revision>
  <dc:subject/>
  <dc:title/>
</cp:coreProperties>
</file>