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2E9-171B-4E69-848F-B5B0B1A4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F23-CBA7-4352-90A0-DFFC829B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BE6-71C3-4A98-9328-479F8241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63E-29B1-4EA5-B261-C5071259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F07-F7FE-4803-8374-B89202C3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0CE-DD1D-491C-A733-317D0B2E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54B-7DB3-4E76-8EE6-EDF9EC96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141-491F-4131-912C-D7735C54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DA8-6126-4D29-A9C4-E07E6831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245-9C78-4C9E-ADA7-ED1A6C6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E8C-0BA5-4917-9113-B5515EE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26F-F523-4199-8322-D502F4A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EA82D-2BC7-48CE-BCBA-28A11630CA2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Arial"/>
              </a:rPr>
              <a:t>El Pijamopa / Zapamo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Alumno: Chantal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Grupo: 4º D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48000"/>
          </a:bodyPr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NO PIERDAS TU OPORTUNIDA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Y RECUERDA: 2X1 EN ZAPAMOP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COMPRA Y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antigatos S.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059360"/>
            <a:ext cx="88693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¿Vas a tener visita y tu hijo no te deja pasar la mop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¡Pues aquí tenemos la solución a tu proble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176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 el Pijamopa para niños, tu hijo puede ayudarte a limpiar mientras juega en el su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2563920"/>
            <a:ext cx="5256000" cy="41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52640" y="1768320"/>
            <a:ext cx="323208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29200" y="1827360"/>
            <a:ext cx="2565360" cy="197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059000"/>
            <a:ext cx="886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y dos modelos, el azul con frutitas y el blanco con un unicornio en med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880" y="1768320"/>
            <a:ext cx="3873600" cy="43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los días más vagos.. ¡Aquí están los zapatos de mopa para ir por tu casa más a gusto que un arbus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3280" y="2604960"/>
            <a:ext cx="4327560" cy="27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los perros que más ensucian, también tenemos unos patucos de m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varios modelos de colores, para todos los gu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lo por esta semana puedes llevarte 2X1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Con la compra de dos zapamopas podrás llevarte este gorro para que esto no vuelva a pasar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onseguir estos artículos, solo tienes que llamar a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2875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erda, 2X1 en las Zapamopas, una por 15.95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ijamopa por 17.99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os patucos perrunos, 8.90€ el p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8:09:05Z</dcterms:created>
  <dc:creator>villena4uno06 villena4uno06</dc:creator>
  <dc:description/>
  <dc:language>en-US</dc:language>
  <cp:lastModifiedBy>villena4uno06 villena4uno06</cp:lastModifiedBy>
  <dcterms:modified xsi:type="dcterms:W3CDTF">2014-05-26T11:28:35Z</dcterms:modified>
  <cp:revision>5</cp:revision>
  <dc:subject/>
  <dc:title/>
</cp:coreProperties>
</file>