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93D-34EF-4659-851E-8A8B36E1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03C-4D72-4D22-A6F7-DD7CC4BC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E26-A35B-436B-A027-09B23BF4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A10-5F0C-42CC-98F5-6BEF4335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C46-7CC9-4210-85EF-EA8CD490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465-0A73-4C49-BC49-C3966E39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783-1DDA-4B6E-B715-BECCAAC8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2EF-75F9-4DB1-88EF-6E95EB3B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E35-7580-4084-8677-5F572CF0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963-72DA-4114-8909-F921634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755-E38B-480B-BE36-2B26C6A8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420-2D7C-4B1D-8044-751F7C1D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EFCC9-8C07-4027-AC30-CD4C6FBB66D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Arial"/>
              </a:rPr>
              <a:t>El Pijamopa / Zapamo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Alumno: Chantal Martí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Grupo: 4º D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48000"/>
          </a:bodyPr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NO PIERDAS TU OPORTUNIDA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Y RECUERDA: 2X1 EN ZAPAMOP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COMPRA Y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antigatos S.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4059360"/>
            <a:ext cx="88693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¿Vas a tener visita y tu hijo no te deja pasar la mop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¡Pues aquí tenemos la solución a tu proble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176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 el Pijamopa para niños, tu hijo puede ayudarte a limpiar mientras juega en el su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000" y="2563920"/>
            <a:ext cx="5256000" cy="41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52640" y="1768320"/>
            <a:ext cx="323208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29200" y="1827360"/>
            <a:ext cx="2565360" cy="197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4059000"/>
            <a:ext cx="886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y dos modelos, el azul con frutitas y el blanco con un unicornio en med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880" y="1768320"/>
            <a:ext cx="3873600" cy="438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para los días más vagos.. ¡Aquí están los zapatos de mopa para ir por tu casa más a gusto que un arbus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3280" y="2604960"/>
            <a:ext cx="4327560" cy="271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los perros que más ensucian, también tenemos unos patucos de m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y varios modelos de colores, para todos los gu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lo por esta semana puedes llevarte 2X1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61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Con la compra de dos zapamopas podrás llevarte este gorro para que esto no vuelva a pasar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onseguir estos artículos, solo tienes que llamar a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02875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erda, 2X1 en las Zapamopas, una por 15.95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ijamopa por 17.99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los patucos perrunos, 8.90€ el pa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8:09:05Z</dcterms:created>
  <dc:creator>villena4uno06 villena4uno06</dc:creator>
  <dc:description/>
  <dc:language>en-US</dc:language>
  <cp:lastModifiedBy>villena4uno06 villena4uno06</cp:lastModifiedBy>
  <dcterms:modified xsi:type="dcterms:W3CDTF">2014-05-26T11:28:35Z</dcterms:modified>
  <cp:revision>5</cp:revision>
  <dc:subject/>
  <dc:title/>
</cp:coreProperties>
</file>