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703-B83B-455C-89CF-6F61AE14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7BC-983C-4806-9C23-F3A0927E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B16-592C-4697-8A15-ED9E84B9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5A5-AC55-43BB-80FB-E4F31D08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0F2-BB43-4A8A-9374-7AD3C8E3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4AB-FB22-401B-98B3-7023CC3C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9E2-5608-4705-BCD8-BF82CE8B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B7D-16D1-43F2-81F8-060F697A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0AF-4FC2-4EB1-B265-CD45EEEF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437-294C-4259-9503-9C84B9E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FC0-7462-49C9-972C-8AE0F503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15C-10B7-4C91-884F-2BD30286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BC16E-02E4-4C7A-9AC6-A55731E92D6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Arial"/>
              </a:rPr>
              <a:t>El Pijamopa / Zapamo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Alumno: Chantal Martí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Grupo: 4º D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48000"/>
          </a:bodyPr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NO PIERDAS TU OPORTUNIDA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Y RECUERDA: 2X1 EN ZAPAMOP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COMPRA YA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antigatos S.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4059360"/>
            <a:ext cx="88693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¿Vas a tener visita y tu hijo no te deja pasar la mop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¡Pues aquí tenemos la solución a tu proble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176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8000"/>
          </a:bodyPr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 el Pijamopa para niños, tu hijo puede ayudarte a limpiar mientras juega en el su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0000" y="2563920"/>
            <a:ext cx="5256000" cy="41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52640" y="1768320"/>
            <a:ext cx="323208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29200" y="1827360"/>
            <a:ext cx="2565360" cy="197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4059000"/>
            <a:ext cx="886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y dos modelos, el azul con frutitas y el blanco con un unicornio en med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880" y="1768320"/>
            <a:ext cx="3873600" cy="438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para los días más vagos.. ¡Aquí están los zapatos de mopa para ir por tu casa más a gusto que un arbus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3280" y="2604960"/>
            <a:ext cx="4327560" cy="271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a los perros que más ensucian, también tenemos unos patucos de m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y varios modelos de colores, para todos los gu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lo por esta semana puedes llevarte 2X1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61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¡Con la compra de dos zapamopas podrás llevarte este gorro para que esto no vuelva a pasar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onseguir estos artículos, solo tienes que llamar a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02875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cuerda, 2X1 en las Zapamopas, una por 15.95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ijamopa por 17.99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los patucos perrunos, 8.90€ el pa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8:09:05Z</dcterms:created>
  <dc:creator>villena4uno06 villena4uno06</dc:creator>
  <dc:description/>
  <dc:language>en-US</dc:language>
  <cp:lastModifiedBy>villena4uno06 villena4uno06</cp:lastModifiedBy>
  <dcterms:modified xsi:type="dcterms:W3CDTF">2014-05-26T11:28:35Z</dcterms:modified>
  <cp:revision>5</cp:revision>
  <dc:subject/>
  <dc:title/>
</cp:coreProperties>
</file>