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2CBB-BE83-4105-8374-6234B0FF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B36-C937-46C9-8DC6-CF652349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7E6-8E6C-46AB-8570-E7E5EF73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01B-2664-45EC-9110-ED8B45D2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4EF-3657-4B93-A7BF-F3A90C13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37C-6070-457A-923E-138FCBF0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C85-1A5E-4E86-8CAC-05E05B6C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641-FABC-4D4C-9540-D7090ECD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4CF-9C88-40EC-AC59-14586E1D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014-D7C1-4CAA-A24F-DD64ABCD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4CC-81D7-47D3-A962-1F1E77B9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E99-0998-4448-8822-4E917B6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1188C-737D-405C-ABB4-298885594A9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3366"/>
                </a:solidFill>
                <a:latin typeface="Arial"/>
              </a:rPr>
              <a:t>El Pijamopa / Zapamo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yecto Multilateral Comenius: ‘¿Qué lees?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Alumno: Chantal Martí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3366"/>
                </a:solidFill>
                <a:latin typeface="Arial"/>
              </a:rPr>
              <a:t>Grupo: 4º D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48000"/>
          </a:bodyPr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NO PIERDAS TU OPORTUNIDA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Y RECUERDA: 2X1 EN ZAPAMOP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Arial"/>
              </a:rPr>
              <a:t>¡COMPRA YA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700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hantigatos S.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4059360"/>
            <a:ext cx="88693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¿Vas a tener visita y tu hijo no te deja pasar la mop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¡Pues aquí tenemos la solución a tu proble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176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8000"/>
          </a:bodyPr>
          <a:p>
            <a:pPr marL="4230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 el Pijamopa para niños, tu hijo puede ayudarte a limpiar mientras juega en el su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0000" y="2563920"/>
            <a:ext cx="5256000" cy="41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52640" y="1768320"/>
            <a:ext cx="323208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29200" y="1827360"/>
            <a:ext cx="2565360" cy="1974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4059000"/>
            <a:ext cx="8869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y dos modelos, el azul con frutitas y el blanco con un unicornio en med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880" y="1768320"/>
            <a:ext cx="3873600" cy="438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para los días más vagos.. ¡Aquí están los zapatos de mopa para ir por tu casa más a gusto que un arbus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3280" y="2604960"/>
            <a:ext cx="4327560" cy="271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ra los perros que más ensucian, también tenemos unos patucos de m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y varios modelos de colores, para todos los gu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lo por esta semana puedes llevarte 2X1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61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432756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¡Con la compra de dos zapamopas podrás llevarte este gorro para que esto no vuelva a pasar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48280" y="1797120"/>
            <a:ext cx="4327560" cy="4327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onseguir estos artículos, solo tienes que llamar a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02875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cuerda, 2X1 en las Zapamopas, una por 15.95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ijamopa por 17.99€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los patucos perrunos, 8.90€ el pa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+ gastos de enví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8:09:05Z</dcterms:created>
  <dc:creator>villena4uno06 villena4uno06</dc:creator>
  <dc:description/>
  <dc:language>en-US</dc:language>
  <cp:lastModifiedBy>villena4uno06 villena4uno06</cp:lastModifiedBy>
  <dcterms:modified xsi:type="dcterms:W3CDTF">2014-05-26T11:28:35Z</dcterms:modified>
  <cp:revision>5</cp:revision>
  <dc:subject/>
  <dc:title/>
</cp:coreProperties>
</file>