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7DC-4995-4CE6-808D-12976FEA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1E4-82E2-44E1-8590-07485EBA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F89-F12C-4431-AF2F-F677B768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64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836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672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8A1-7E6B-4DEA-AB6D-BECED363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1BB3-EA1D-4B95-9F10-52D652D1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9EC2-89E3-4A71-A1D5-AF54847D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E4F9-484B-43E5-AA5B-54399951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515A-2120-48E2-B80C-CE19BF5B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7F67-88ED-4B88-BC3B-CF4A6F38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BAFD-4463-4043-B3E2-617B824F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5113-E12C-4361-B2BF-0A5428C1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FA3-FA11-4CAE-B30B-F97D29DD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0BD6-8BD6-4A70-8B03-F0E60879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4307-9260-4552-920B-744F0A23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F6E6-0B5F-4DC3-9553-07738B37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E9FC-BA29-4732-8A61-4739578A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64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836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672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5D87-B683-401F-A315-A85157AC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FD98-D4AD-4B33-9EB5-C453EB19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B85-4A83-498A-AC31-0D59DBE0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84F-5EBD-4F07-97B5-DD1D8B62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3FA-71AD-4A29-A0D1-E6BF87FA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87A-3377-4891-82B0-8A14A936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161-3D35-4DE7-8EEB-292EE5A4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81A-6C3A-43EE-AE64-F0A73F7E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FE303-CEB2-4ADF-BAF8-CE0ABF60203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63640" y="60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03720" y="6707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15000" y="6707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94C82-2202-403C-B3C9-B22558EEDD6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Zapatillas ultra power cash 7.000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7240" y="2015640"/>
            <a:ext cx="88693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'¿Qué lees?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a: Ainhoa Extremera Góm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rupo:1º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72360" y="3625920"/>
            <a:ext cx="2663640" cy="2565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456000" y="5400720"/>
            <a:ext cx="331164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Utilidad del product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79280" y="1950840"/>
            <a:ext cx="7775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la mayoría de personas les cuesta levantarse por la mañana a por sus zapatillas,estan cansados y no pueden casi levantarse.Con este producto con solo un chasquido tus zapatillas ultra power cash 7.000 vendrán a 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480000" y="5184720"/>
            <a:ext cx="325620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871640" y="5037120"/>
            <a:ext cx="324000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80000" y="-4680"/>
            <a:ext cx="61560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Tallas y colores disponibles en centros comerciales: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15640" y="166356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mujer: talla de la 31 hasta la 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lores: rosa,rojo,verde,azul,naranja y blan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hombre: talla de la 31 hasta la 4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l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zul,verde,amarillo,negro y marr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320920" y="52722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616720" y="5111640"/>
            <a:ext cx="295272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Lugar de fabricación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87280" y="187956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suela está hecha en España ,es de goma flexible y resistente al a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zapatilla es de España,también,pero está hecha de t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63640" y="4032360"/>
            <a:ext cx="4762440" cy="3171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183280" y="3959280"/>
            <a:ext cx="4680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Precio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su calidad,resistencia al agua,flexibilidad... Estas zapatillas cuestan 65,99 euros, parecen caras pero no lo son, si llama ahora las puede conseguir por menos de la mi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lame ahora al: 902 20 21 22 llamenos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07080" y="4768920"/>
            <a:ext cx="3148200" cy="2287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64000" y="5052960"/>
            <a:ext cx="33843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34920" y="-4680"/>
            <a:ext cx="615636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entros comerciales y tiendas donde estan disponibles 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entros comerciales : En Nuevo Centro, en el Corte Inglés, en el Aqua, en el Sal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das: Bershka, Pull &amp; Bear, C&amp;A, H&amp;M, Zara, Shana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9800" y="4248000"/>
            <a:ext cx="5524560" cy="3143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135840" y="4479840"/>
            <a:ext cx="31510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Sorteos y rifas: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Corte Inglés sortea el día 16 de Junio unas zapatillas ultra power cash 7.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vo Centro rifa dos pares de zapatillas ultra power cash 7.000 Adidas  y N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 esperam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38480" y="5083200"/>
            <a:ext cx="3051000" cy="221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472000" y="4319640"/>
            <a:ext cx="3456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0T06:54:18Z</dcterms:created>
  <dc:creator>villena1bc13 villena1bc13</dc:creator>
  <dc:description/>
  <dc:language>en-US</dc:language>
  <cp:lastModifiedBy>villena1bc13 villena1bc13</cp:lastModifiedBy>
  <dcterms:modified xsi:type="dcterms:W3CDTF">2014-06-13T06:43:54Z</dcterms:modified>
  <cp:revision>5</cp:revision>
  <dc:subject/>
  <dc:title/>
</cp:coreProperties>
</file>