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724-C98A-4A73-8253-37FBD127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602-E724-453C-B97E-CA24271D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65B-923D-4022-8F36-2AD4316D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A09-8A3B-4450-A797-7CD2FA49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BC9E-0609-4930-8BDB-BFDA02F1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898E-6929-40C6-8779-61284968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5C68-9564-4DB6-BA08-ECF6755C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DD34-42C2-42F9-951F-EE4BC594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BD15-B2CC-459E-8A31-53CE9589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4500-9F5A-4E63-A49E-3E080595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8A7C-FDE5-4F69-962D-8DA424ED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952-137E-44A7-A461-C4E699D2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F2F7-31AB-4082-8672-B94622F0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95A6-BEE9-41C2-A385-B68C72E8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AAA8-F8CA-467F-845A-05CBDFF4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D7D0-A9A6-437D-85B3-5424C589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8A89-98FF-4A5B-BC47-75B77AD6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B47-AF32-48FA-9BC4-3E339916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816-F94E-42CD-BB7B-CFEBEA87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3D6-8F89-487E-93EC-D068FE4C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984-1E5D-4D6D-835C-C70595AC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1CB-D7C0-4C7A-91B4-8602252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D70-DA40-483B-BCCF-A236E759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0D5-666C-43B5-83AC-28126B33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78DD7-7536-43ED-813C-6C67FA1A3F8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9FA71-0F26-4B44-9F09-114DF5BFF1F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Zapatillas ultra power cash 7.000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7240" y="201564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a: Ainhoa Extremera Góm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1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72360" y="3625920"/>
            <a:ext cx="2663640" cy="2565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56000" y="5400720"/>
            <a:ext cx="331164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Utilidad del produc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79280" y="1950840"/>
            <a:ext cx="7775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 mayoría de personas les cuesta levantarse por la mañana a por sus zapatillas,estan cansados y no pueden casi levantarse.Con este producto con solo un chasquido tus zapatillas ultra power cash 7.000 vendrán a 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80000" y="5184720"/>
            <a:ext cx="325620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71640" y="5037120"/>
            <a:ext cx="32400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0000" y="-4680"/>
            <a:ext cx="61560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Tallas y colores disponibles en centros comerciale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663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mujer: talla de la 31 hasta la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 rosa,rojo,verde,azul,naranja y bl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hombre: talla de la 31 hasta la 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zul,verde,amarillo,negro y marr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20920" y="52722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16720" y="5111640"/>
            <a:ext cx="29527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Lugar de fabricac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87280" y="1879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ela está hecha en España ,es de goma flexible y resistente al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zapatilla es de España,también,pero está hecha de t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63640" y="403236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83280" y="395928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recio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su calidad,resistencia al agua,flexibilidad... Estas zapatillas cuestan 65,99 euros, parecen caras pero no lo son, si llama ahora las puede conseguir por menos de la mi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ame ahora al: 902 20 21 22 llamenos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07080" y="4768920"/>
            <a:ext cx="3148200" cy="2287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64000" y="5052960"/>
            <a:ext cx="33843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34920" y="-4680"/>
            <a:ext cx="615636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entros comerciales y tiendas donde estan disponibles 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entros comerciales : En Nuevo Centro, en el Corte Inglés, en el Aqua, en el Sal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das: Bershka, Pull &amp; Bear, C&amp;A, H&amp;M, Zara, Shana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9800" y="4248000"/>
            <a:ext cx="5524560" cy="314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35840" y="4479840"/>
            <a:ext cx="31510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Sorteos y rifa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orte Inglés sortea el día 16 de Junio unas zapatillas ultra power cash 7.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vo Centro rifa dos pares de zapatillas ultra power cash 7.000 Adidas  y N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 esperam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38480" y="5083200"/>
            <a:ext cx="3051000" cy="221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472000" y="431964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54:18Z</dcterms:created>
  <dc:creator>villena1bc13 villena1bc13</dc:creator>
  <dc:description/>
  <dc:language>en-US</dc:language>
  <cp:lastModifiedBy>villena1bc13 villena1bc13</cp:lastModifiedBy>
  <dcterms:modified xsi:type="dcterms:W3CDTF">2014-06-13T06:43:54Z</dcterms:modified>
  <cp:revision>5</cp:revision>
  <dc:subject/>
  <dc:title/>
</cp:coreProperties>
</file>