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18A-1520-4285-8D39-C0CE6E3B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337-2307-438D-93D8-9A97FCCC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41E-95BD-4745-97DE-0A3CDE71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0F6-0D8B-4222-B333-7DD614EC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B656-1E69-4802-B062-9BD3E790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74A5-574F-4A77-B7E4-9ECECE0B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5707-BC40-4D4E-A138-D8B2D496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9DC9-4A7B-400D-AC28-8ECE42EB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A1A7-811F-4309-9D45-832AC0BD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91E7-C22B-4916-99FC-58FFE221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E6BE-7068-4487-99C8-D0EA051D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A16-B5BC-4010-A420-7695E924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C098-D44A-4E5B-99BA-B6794FA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BAFB-492A-4D91-847F-A5C04A8E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5969-70FA-4084-B3C2-3554D54A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8FD0-C6A3-41CD-A464-B63B3A34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EDAF-5F50-4C61-9ED2-BEC99C09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A2B-6999-4E66-A347-6721B77F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6FD-C542-43C9-AF2D-6C39B9A0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7C8-4E89-4936-AEE1-48510C41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CFA-2CC6-48E1-A88E-979788EB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EFE-D48F-4166-BC52-10DA5958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C66-989C-438C-824E-279F87B2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EE8-EF0B-48C5-B1F9-324B9A58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C4B4E-67EC-4909-A56A-10865931C30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E5DF4-D9C7-4EC8-9720-F9B17E6D073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Zapatillas ultra power cash 7.000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7240" y="201564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a: Ainhoa Extremera Góm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1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72360" y="3625920"/>
            <a:ext cx="2663640" cy="2565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56000" y="5400720"/>
            <a:ext cx="331164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Utilidad del produc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79280" y="1950840"/>
            <a:ext cx="7775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 mayoría de personas les cuesta levantarse por la mañana a por sus zapatillas,estan cansados y no pueden casi levantarse.Con este producto con solo un chasquido tus zapatillas ultra power cash 7.000 vendrán a 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80000" y="5184720"/>
            <a:ext cx="325620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71640" y="5037120"/>
            <a:ext cx="32400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0000" y="-4680"/>
            <a:ext cx="61560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Tallas y colores disponibles en centros comerciale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663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mujer: talla de la 31 hasta la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 rosa,rojo,verde,azul,naranja y bl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hombre: talla de la 31 hasta la 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zul,verde,amarillo,negro y marr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20920" y="52722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16720" y="5111640"/>
            <a:ext cx="29527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Lugar de fabricac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87280" y="1879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ela está hecha en España ,es de goma flexible y resistente al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zapatilla es de España,también,pero está hecha de t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63640" y="403236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83280" y="395928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recio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su calidad,resistencia al agua,flexibilidad... Estas zapatillas cuestan 65,99 euros, parecen caras pero no lo son, si llama ahora las puede conseguir por menos de la mi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ame ahora al: 902 20 21 22 llamenos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07080" y="4768920"/>
            <a:ext cx="3148200" cy="2287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64000" y="5052960"/>
            <a:ext cx="33843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34920" y="-4680"/>
            <a:ext cx="615636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entros comerciales y tiendas donde estan disponibles 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entros comerciales : En Nuevo Centro, en el Corte Inglés, en el Aqua, en el Sal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das: Bershka, Pull &amp; Bear, C&amp;A, H&amp;M, Zara, Shana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9800" y="4248000"/>
            <a:ext cx="5524560" cy="314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35840" y="4479840"/>
            <a:ext cx="31510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Sorteos y rifa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orte Inglés sortea el día 16 de Junio unas zapatillas ultra power cash 7.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vo Centro rifa dos pares de zapatillas ultra power cash 7.000 Adidas  y N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 esperam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38480" y="5083200"/>
            <a:ext cx="3051000" cy="221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472000" y="431964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54:18Z</dcterms:created>
  <dc:creator>villena1bc13 villena1bc13</dc:creator>
  <dc:description/>
  <dc:language>en-US</dc:language>
  <cp:lastModifiedBy>villena1bc13 villena1bc13</cp:lastModifiedBy>
  <dcterms:modified xsi:type="dcterms:W3CDTF">2014-06-13T06:43:54Z</dcterms:modified>
  <cp:revision>5</cp:revision>
  <dc:subject/>
  <dc:title/>
</cp:coreProperties>
</file>