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D68-82A9-4F03-A758-A5428E7D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2D7-DF0B-4E00-AA36-75F88164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9CC-AD00-41C5-B6C7-281E690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CC6-01E1-470D-840D-46F045CC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A56F-EEF1-44F6-A317-55F32246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30F0-9FA4-478C-BFA9-C91F201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8908-6955-4977-8288-4B13C54A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088-9E9D-4D11-9400-DA27F490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71E4-7C0F-4774-A7C4-307D2DE5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F991-E6C1-4D6E-86D7-3AAA3225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6383-AACE-4CBB-A415-492232D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3E5-B1A9-4C00-B709-46B0FC72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5567-A474-4A9D-A728-26F0A28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5707-A8CD-4DEE-B518-F2D9AD56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08A1-EAA9-4BBA-A70E-FB1B0684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A4CD-F020-4A1A-9240-646D3211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17683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4057920"/>
            <a:ext cx="25030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4F37-91F4-4823-AEE2-87A0804D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350-A6A1-4E94-808E-97ECA9FB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3AD-F55E-4F35-8947-DABE1718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CC3A-C14E-4136-A14C-DDFD2A97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ECF-C8C8-4975-BE3D-01875CF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DF2-185C-4717-B5E2-BE3B9A66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40579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F5D-11B7-46D8-8BCD-0F86444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1768320"/>
            <a:ext cx="37933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4057920"/>
            <a:ext cx="7773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DD6-BBF5-4D1A-8251-139FAD9A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A34EA-C1D4-4C04-B076-2549F6CD494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768320"/>
            <a:ext cx="7773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86877-B6B1-4AC1-94ED-A42D4A0B2498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Zapatillas ultra power cash 7.000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7240" y="2015640"/>
            <a:ext cx="886932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Multilateral Comenius:'¿Qué lees?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ES Isabel de Vil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or: José Andrés M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umna: Ainhoa Extremera Gó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rupo:1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72360" y="3625920"/>
            <a:ext cx="2663640" cy="2565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56000" y="5400720"/>
            <a:ext cx="331164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Utilidad del producto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79280" y="1950840"/>
            <a:ext cx="7775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 mayoría de personas les cuesta levantarse por la mañana a por sus zapatillas,estan cansados y no pueden casi levantarse.Con este producto con solo un chasquido tus zapatillas ultra power cash 7.000 vendrán a 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480000" y="5184720"/>
            <a:ext cx="32562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71640" y="5037120"/>
            <a:ext cx="32400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00" y="-4680"/>
            <a:ext cx="61560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Tallas y colores disponibles en centros comerciale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15640" y="1663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mujer: talla de la 31 hasta la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 rosa,rojo,verde,azul,naranja y bl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hombre: talla de la 31 hasta la 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l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zul,verde,amarillo,negro y marr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20920" y="52722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16720" y="5111640"/>
            <a:ext cx="29527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Lugar de fabricación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7280" y="187956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ela está hecha en España ,es de goma flexible y resistente al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zapatilla es de España,también,pero está hecha de t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63640" y="403236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83280" y="3959280"/>
            <a:ext cx="468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Precio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su calidad,resistencia al agua,flexibilidad... Estas zapatillas cuestan 65,99 euros, parecen caras pero no lo son, si llama ahora las puede conseguir por menos de la mi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ame ahora al: 902 20 21 22 llameno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07080" y="4768920"/>
            <a:ext cx="3148200" cy="2287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64000" y="5052960"/>
            <a:ext cx="33843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4920" y="-4680"/>
            <a:ext cx="615636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Centros comerciales y tiendas donde estan disponibles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entros comerciales : En Nuevo Centro, en el Corte Inglés, en el Aqua, en el Sal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das: Bershka, Pull &amp; Bear, C&amp;A, H&amp;M, Zara, Shana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9800" y="4248000"/>
            <a:ext cx="5524560" cy="314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35840" y="4479840"/>
            <a:ext cx="315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4400" spc="-1" strike="noStrike">
                <a:solidFill>
                  <a:srgbClr val="800000"/>
                </a:solidFill>
                <a:latin typeface="Arial"/>
              </a:rPr>
              <a:t>Sorteos y rifas: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orte Inglés sortea el día 16 de Junio unas zapatillas ultra power cash 7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vo Centro rifa dos pares de zapatillas ultra power cash 7.000 Adidas  y N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 espera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38480" y="5083200"/>
            <a:ext cx="3051000" cy="221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472000" y="4319640"/>
            <a:ext cx="3456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6:54:18Z</dcterms:created>
  <dc:creator>villena1bc13 villena1bc13</dc:creator>
  <dc:description/>
  <dc:language>en-US</dc:language>
  <cp:lastModifiedBy>villena1bc13 villena1bc13</cp:lastModifiedBy>
  <dcterms:modified xsi:type="dcterms:W3CDTF">2014-06-13T06:43:54Z</dcterms:modified>
  <cp:revision>5</cp:revision>
  <dc:subject/>
  <dc:title/>
</cp:coreProperties>
</file>