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038-8C49-4A74-B021-3152026C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1B3-46BD-4D09-AFE2-50DC9A7C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2E7-BD9A-4E36-9197-A6ACC167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2A5-FC74-43C3-BDEF-841D9563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D202-F308-4F36-909D-9072C490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EAE7-3B73-4F4E-AA92-7931FE03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C25B-A5C5-4A25-8DD7-3A3D841B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ECE5-A5B0-4FBC-A5EF-1573F698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86EC-29E0-418C-BF70-1F226A58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B68E-D9A4-499D-B955-543939EF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1D47-7C3A-4EF4-8556-FC161AAA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2F2-734A-440D-A8F1-77B78E6E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BE96-C8B2-43B7-8CF1-C35A570A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59A2-29CA-410F-82A2-78BE17C7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239B-730D-4A8F-8A79-E4206CCC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77A0-D7C2-42B4-AE99-23D792B0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55BF-AE99-4D9D-BD76-71DC6AAF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772-CADF-459E-9165-D699EF4B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E01-D1D2-4971-B8B7-39A06F1F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5F0-9939-4A28-B1B5-C44CF8BA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5CB-957D-4677-8F49-3D0F7F25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179-3419-4979-8F1A-2A94E00A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8C0-CBAB-4CDC-B80E-1D0B204A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39C-6D50-40FF-BBC9-0CDD08C3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7D95A-90C7-4DFC-ACF5-66573D4159A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E71D1-91D6-4C2B-AD29-080E6C76A89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Zapatillas ultra power cash 7.000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7240" y="201564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a: Ainhoa Extremera Gó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1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72360" y="3625920"/>
            <a:ext cx="2663640" cy="2565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56000" y="5400720"/>
            <a:ext cx="331164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Utilidad del produc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1950840"/>
            <a:ext cx="7775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 mayoría de personas les cuesta levantarse por la mañana a por sus zapatillas,estan cansados y no pueden casi levantarse.Con este producto con solo un chasquido tus zapatillas ultra power cash 7.000 vendrán a 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80000" y="5184720"/>
            <a:ext cx="32562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71640" y="5037120"/>
            <a:ext cx="32400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00" y="-4680"/>
            <a:ext cx="61560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Tallas y colores disponibles en centros comerciale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663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mujer: talla de la 31 hasta la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 rosa,rojo,verde,azul,naranja y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hombre: talla de la 31 hasta la 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zul,verde,amarillo,negro y marr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20920" y="52722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16720" y="5111640"/>
            <a:ext cx="29527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Lugar de fabricac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7280" y="1879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ela está hecha en España ,es de goma flexible y resistente al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zapatilla es de España,también,pero está hecha de t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63640" y="403236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83280" y="395928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recio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su calidad,resistencia al agua,flexibilidad... Estas zapatillas cuestan 65,99 euros, parecen caras pero no lo son, si llama ahora las puede conseguir por menos de la mi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ame ahora al: 902 20 21 22 llameno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07080" y="4768920"/>
            <a:ext cx="3148200" cy="2287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64000" y="5052960"/>
            <a:ext cx="3384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4920" y="-4680"/>
            <a:ext cx="615636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entros comerciales y tiendas donde estan disponibles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entros comerciales : En Nuevo Centro, en el Corte Inglés, en el Aqua, en el Sal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das: Bershka, Pull &amp; Bear, C&amp;A, H&amp;M, Zara, Shana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9800" y="4248000"/>
            <a:ext cx="5524560" cy="314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35840" y="4479840"/>
            <a:ext cx="315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Sorteos y rifa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rte Inglés sortea el día 16 de Junio unas zapatillas ultra power cash 7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vo Centro rifa dos pares de zapatillas ultra power cash 7.000 Adidas  y N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 espera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38480" y="5083200"/>
            <a:ext cx="3051000" cy="221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472000" y="431964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54:18Z</dcterms:created>
  <dc:creator>villena1bc13 villena1bc13</dc:creator>
  <dc:description/>
  <dc:language>en-US</dc:language>
  <cp:lastModifiedBy>villena1bc13 villena1bc13</cp:lastModifiedBy>
  <dcterms:modified xsi:type="dcterms:W3CDTF">2014-06-13T06:43:54Z</dcterms:modified>
  <cp:revision>5</cp:revision>
  <dc:subject/>
  <dc:title/>
</cp:coreProperties>
</file>