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3761-3FBD-46B2-BF95-4E97B6522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8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91640" y="4268880"/>
            <a:ext cx="8278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772D-5DDE-4377-9EBE-3BBB96503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388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91640" y="42688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33880" y="42688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85E1-7441-486C-B1B2-97749C224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0640" y="19792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0000" y="19792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91640" y="42688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0640" y="42688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0000" y="42688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A407-E626-4857-A0F2-CE5058A41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FECAC-603B-4DE4-AFA3-77673962A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91640" y="1979280"/>
            <a:ext cx="8278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FDEF0-4C90-4CA0-8C4D-C824A4F9B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8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F2BEA-DBEC-4D30-BDA1-6E5F0E5BD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33880" y="1979280"/>
            <a:ext cx="4039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E3B2F-4EF4-4F7C-B5E5-D6D7C502E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23BE3-582D-40C5-B5D5-43ED049D2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553680"/>
            <a:ext cx="8854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DE284-C1E1-4B35-B2E4-8C198C74D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3880" y="1979280"/>
            <a:ext cx="4039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91640" y="42688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8A581-8DEF-45BC-8053-49606251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91640" y="1979280"/>
            <a:ext cx="8278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993A-0B47-494E-BD1C-9A9F329A3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388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3880" y="42688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AFF74-2357-42C7-B082-70F79A4E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3388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91640" y="4268880"/>
            <a:ext cx="8278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CC29E-0D27-41E2-A7E6-58E39E28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8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91640" y="4268880"/>
            <a:ext cx="8278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DF19D-5A95-438B-A97D-EE5E3D9A1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388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91640" y="42688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33880" y="42688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DD6D1-5556-4F96-BB91-EB06AEB59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0640" y="19792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0000" y="19792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91640" y="42688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90640" y="42688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0000" y="42688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C466C-6479-4ADB-836B-BFF9FA049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8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A1E3-60C1-4822-8AAF-0E0AF2145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33880" y="1979280"/>
            <a:ext cx="4039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84D6-ACCF-482A-81A9-25FE02C61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E2C3-8342-4649-829D-21A4345F2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553680"/>
            <a:ext cx="8854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EC56-4926-4A7F-A795-01F955E80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3880" y="1979280"/>
            <a:ext cx="4039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91640" y="42688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C074-A8CD-432B-926A-D4CF00EB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388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3880" y="42688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489F-9EAF-4241-BF5F-921852B8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388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91640" y="4268880"/>
            <a:ext cx="8278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8390-DE0A-4EE2-97E0-DB98A4B8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769E39-1577-4F81-BA51-63F3031DD57A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91640" y="1979280"/>
            <a:ext cx="8278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39640" y="641988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41988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83360" y="641988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DE54F7-BA6B-4F92-9585-ADD77748989C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Maquina de teletransporte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792000" y="1979640"/>
            <a:ext cx="82807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yecto Multilateral Comenius: ¿Que le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ES Isabel de Ville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esor: José Andrés Mol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lumno: Jennyfer Torres 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Grupo:4º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064200" y="4680000"/>
            <a:ext cx="329580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49000" y="738000"/>
            <a:ext cx="8869320" cy="638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¿Te deprime tu vieja rutina mañanera? ¿Estás hasta el gorro de plantarte en el trabajo con hambre, apestando y de mal humor? ¿Detestas llegar tarde a todas partes? Pues... ¡prepárate para animar tu despertar con nuestra maravilla tecnológica de supertransporte y ultracombinación pendiente de patente! Come, dúchate y haz tus necesidades, y luego teletranspórtate exactamente al lugar al que tengas que ir... ¡en menos de la mitad de tiempo! ¡Sal de la cama y adéntrate en el maravilloso mundo de la tecnología al recoger hoy tu máquina de teletransporte "Elimina la rutina"!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0320" y="1160640"/>
            <a:ext cx="886932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Con una capacidad ocultale, para que nadie quiera usarla por ti, tiene una ligera estética parecida a la de una ducha. Que mas se puede pedir? Puedes ir a cualquier parte del mundo, recién duchado y listo para cualquier situación.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584360" y="4176720"/>
            <a:ext cx="640872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92000" y="1979640"/>
            <a:ext cx="82807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Esta ducha – maquina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de teletransporte lleva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incluida una radio y un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reproductor mp3, para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que puedas escuchar las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noticias y la musica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actual mientras realizas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tu propio viaje.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616720" y="431640"/>
            <a:ext cx="4381200" cy="654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77360" y="1068480"/>
            <a:ext cx="886932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Y lo mejor de todo es que no usa combustible, solo debes pagar el dinero que cuesta esta “cabina” y podrás ir a cualquier parte del mundo en cuestión de minutos.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859040" y="3095640"/>
            <a:ext cx="5987880" cy="34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29920" y="1266840"/>
            <a:ext cx="886932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Escaqueate de tu rutina, despiértate con el tiempo justo para ir a trabajar, llega siempre a tiempo a los sitios a la hora que has quedado y manteniendo una higiene, limpieza y olor puro, y perfecto.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079640" y="3809880"/>
            <a:ext cx="7632720" cy="317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8869320" cy="5542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Encima cuenta con un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lector de la mano para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que así solo puedas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acceder tu y los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acompañantes que lo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desees. Nadie podrá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aprobecharse de ti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debida a ciertas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circunstancias.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111640" y="720720"/>
            <a:ext cx="4194360" cy="619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760" y="1425600"/>
            <a:ext cx="886932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Con una capacidad para 20 personas. Así podrás realizar los viajes soñados por muchísimo menos precio y acomopañado de la gente que quieres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863640" y="3384720"/>
            <a:ext cx="8567640" cy="35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92000" y="1979640"/>
            <a:ext cx="82807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DUCHA-MAQUINA DE TELETRANSPORTE, mas un reproductor de radio y musica, con pantalla plana de 48” y de regalo sales de baño, una colección inédita de geles y champús y todo por el módico precio de 5.000€.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¿Te lo vas a perder?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No dejes escapar esta promoción, hasta agotar existencias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6T08:37:25Z</dcterms:created>
  <dc:creator>villena4dos11 villena4dos11</dc:creator>
  <dc:description/>
  <dc:language>en-US</dc:language>
  <cp:lastModifiedBy>lliurex </cp:lastModifiedBy>
  <dcterms:modified xsi:type="dcterms:W3CDTF">2014-06-16T08:43:49Z</dcterms:modified>
  <cp:revision>2</cp:revision>
  <dc:subject/>
  <dc:title/>
</cp:coreProperties>
</file>