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E93-A400-42AB-AFFB-252B3B0E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DA3-A456-45AB-B861-AFB30621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4A4-7595-4DAA-9851-6A15139E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01F-E7B4-45C7-8338-94EC9381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214A-546D-4DBD-9BC0-434BED23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6723-005D-4BCD-BE58-1F67D01A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E5B1-6991-4B4C-B7A9-87793C20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3F6C-39BB-4257-B94B-581D036B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A420-42CE-456F-A14B-ECDE4D14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1D21-2799-449D-A0E6-76B05A0B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DD7F-FFDF-4C45-9FA0-C7B3569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3FB-5CC3-4BF4-9B5F-4348697F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74AD-E9CE-4C89-A424-ED30B632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CED0-CD53-48E1-8BCF-EC4DDA1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1866-9BB2-4CC7-B699-383DD2C9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840B-5D1A-4CCE-99D0-FA1364AA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5574-0574-4CA1-BB8D-B73912DB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C85-026F-4869-8C66-3297D5CC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00E-A4D6-450B-953C-7B218D5D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E96-E0BC-4883-9889-39B12D07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804-A112-42CB-A24B-F752166E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D69-C6FC-4D21-A570-B8A434D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764-D1F7-42D4-B7EB-03D94417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E9D-D039-4DAF-80A9-4B135DB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63EFC-1F83-47F3-9185-72D2267EEE7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9F2C6-81FF-4B34-904D-047D3433CBC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quina de teletransport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¿Que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Jennyfer Torres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4º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64200" y="4680000"/>
            <a:ext cx="32958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000" y="738000"/>
            <a:ext cx="886932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deprime tu vieja rutina mañanera? ¿Estás hasta el gorro de plantarte en el trabajo con hambre, apestando y de mal humor? ¿Detestas llegar tarde a todas partes? Pues... ¡prepárate para animar tu despertar con nuestra maravilla tecnológica de supertransporte y ultracombinación pendiente de patente! Come, dúchate y haz tus necesidades, y luego teletranspórtate exactamente al lugar al que tengas que ir... ¡en menos de la mitad de tiempo! ¡Sal de la cama y adéntrate en el maravilloso mundo de la tecnología al recoger hoy tu máquina de teletransporte "Elimina la rutina"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0320" y="11606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ocultale, para que nadie quiera usarla por ti, tiene una ligera estética parecida a la de una ducha. Que mas se puede pedir? Puedes ir a cualquier parte del mundo, recién duchado y listo para cualquier situación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84360" y="4176720"/>
            <a:ext cx="6408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ta ducha – maquin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 teletransporte llev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incluida una radio y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reproductor mp3,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puedas escuchar la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ticias y la music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tual mientras realiz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tu propio viaj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16720" y="431640"/>
            <a:ext cx="4381200" cy="654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7360" y="106848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Y lo mejor de todo es que no usa combustible, solo debes pagar el dinero que cuesta esta “cabina” y podrás ir a cualquier parte del mundo en cuestión de minuto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59040" y="3095640"/>
            <a:ext cx="59878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9920" y="12668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caqueate de tu rutina, despiértate con el tiempo justo para ir a trabajar, llega siempre a tiempo a los sitios a la hora que has quedado y manteniendo una higiene, limpieza y olor puro, y perfecto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79640" y="3809880"/>
            <a:ext cx="76327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54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ncima cuenta con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lector de la mano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así solo pued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ceder tu y lo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ompañantes que lo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sees. Nadie podrá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probecharse de ti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bida a ciert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ircunstancia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11640" y="720720"/>
            <a:ext cx="41943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60" y="142560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para 20 personas. Así podrás realizar los viajes soñados por muchísimo menos precio y acomopañado de la gente que quier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63640" y="3384720"/>
            <a:ext cx="85676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UCHA-MAQUINA DE TELETRANSPORTE, mas un reproductor de radio y musica, con pantalla plana de 48” y de regalo sales de baño, una colección inédita de geles y champús y todo por el módico precio de 5.000€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lo vas a perder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 dejes escapar esta promoción, hasta agotar existencia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37:25Z</dcterms:created>
  <dc:creator>villena4dos11 villena4dos11</dc:creator>
  <dc:description/>
  <dc:language>en-US</dc:language>
  <cp:lastModifiedBy>lliurex </cp:lastModifiedBy>
  <dcterms:modified xsi:type="dcterms:W3CDTF">2014-06-16T08:43:49Z</dcterms:modified>
  <cp:revision>2</cp:revision>
  <dc:subject/>
  <dc:title/>
</cp:coreProperties>
</file>