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072-6CEB-455F-A0B1-534D83EA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2C3-7EF8-4EF3-A544-2F865BCA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79A-879A-4E83-AF24-E2B9DEFE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8F2-7D0E-44C0-BB29-E3B59D65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D3C-37DC-429B-9B59-85D45793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3A92-4C72-4FAF-87F6-26BEE16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39A7-A942-496F-9910-003D8C41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00E5-3806-49AC-98BE-8BFC2C1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FCCA-A909-4688-A022-6C1A400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857-70B1-41E6-831A-75DB9D82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54C6-EA84-4A4A-A71A-8505F145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ED0-4AEC-481D-839A-AA0DD93D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C05A-DCD8-4A73-9DCD-ED7632A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4C03-BED8-4B43-A1CF-D1C5EC4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0EF-C117-43D8-B8C5-19D65F1F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B3D-4998-436D-90BD-BF38DE88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12C6-E203-4AF0-A1DE-BD7B7E88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039-ABF2-49B1-9344-FB87431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B95-E089-4B03-AEBA-9B7081D0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25A-12D2-4681-8D6D-13403F2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E1D-AAFC-4CBF-8B07-1FB6AE0F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74C-5DFF-49A6-A459-D5980FB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4C9-8FCE-441E-AA30-A131221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1E5-D66D-4000-BA68-4EE0FF2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209D7-1D26-4D4E-B22A-A65B8A0A959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75B02-7A8F-452B-BD7C-43592EA882C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quina de teletranspor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¿Que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Jennyfer Torres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4º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64200" y="4680000"/>
            <a:ext cx="32958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738000"/>
            <a:ext cx="886932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deprime tu vieja rutina mañanera? ¿Estás hasta el gorro de plantarte en el trabajo con hambre, apestando y de mal humor? ¿Detestas llegar tarde a todas partes? Pues... ¡prepárate para animar tu despertar con nuestra maravilla tecnológica de supertransporte y ultracombinación pendiente de patente! Come, dúchate y haz tus necesidades, y luego teletranspórtate exactamente al lugar al que tengas que ir... ¡en menos de la mitad de tiempo! ¡Sal de la cama y adéntrate en el maravilloso mundo de la tecnología al recoger hoy tu máquina de teletransporte "Elimina la rutina"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0320" y="11606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ocultale, para que nadie quiera usarla por ti, tiene una ligera estética parecida a la de una ducha. Que mas se puede pedir? Puedes ir a cualquier parte del mundo, recién duchado y listo para cualquier situación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4360" y="4176720"/>
            <a:ext cx="6408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ta ducha – maqui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 teletransporte lle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cluida una radio y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roductor mp3,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puedas escuchar l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ticias y la mus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tual mientras realiz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tu propio viaj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16720" y="431640"/>
            <a:ext cx="4381200" cy="654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06848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Y lo mejor de todo es que no usa combustible, solo debes pagar el dinero que cuesta esta “cabina” y podrás ir a cualquier parte del mundo en cuestión de minuto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59040" y="3095640"/>
            <a:ext cx="59878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9920" y="12668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caqueate de tu rutina, despiértate con el tiempo justo para ir a trabajar, llega siempre a tiempo a los sitios a la hora que has quedado y manteniendo una higiene, limpieza y olor puro, y perfecto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79640" y="3809880"/>
            <a:ext cx="76327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ncima cuenta con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ector de la mano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así solo pued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ceder tu y lo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ompañantes que lo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sees. Nadie podrá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probecharse de 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bida a ciert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ircunstancia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11640" y="720720"/>
            <a:ext cx="4194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60" y="142560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para 20 personas. Así podrás realizar los viajes soñados por muchísimo menos precio y acomopañado de la gente que quier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3640" y="3384720"/>
            <a:ext cx="8567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UCHA-MAQUINA DE TELETRANSPORTE, mas un reproductor de radio y musica, con pantalla plana de 48” y de regalo sales de baño, una colección inédita de geles y champús y todo por el módico precio de 5.000€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lo vas a perder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 dejes escapar esta promoción, hasta agotar existencia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37:25Z</dcterms:created>
  <dc:creator>villena4dos11 villena4dos11</dc:creator>
  <dc:description/>
  <dc:language>en-US</dc:language>
  <cp:lastModifiedBy>lliurex </cp:lastModifiedBy>
  <dcterms:modified xsi:type="dcterms:W3CDTF">2014-06-16T08:43:49Z</dcterms:modified>
  <cp:revision>2</cp:revision>
  <dc:subject/>
  <dc:title/>
</cp:coreProperties>
</file>