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61A3B-2B2C-4851-93C3-B167B15FA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82789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91640" y="4268880"/>
            <a:ext cx="82789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AEED4-36D0-4B79-B71B-7EDD99C56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40399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33880" y="1979280"/>
            <a:ext cx="40399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91640" y="4268880"/>
            <a:ext cx="40399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33880" y="4268880"/>
            <a:ext cx="40399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7C53D-3D68-4691-9855-897691B3A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26654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90640" y="1979280"/>
            <a:ext cx="26654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90000" y="1979280"/>
            <a:ext cx="26654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91640" y="4268880"/>
            <a:ext cx="26654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90640" y="4268880"/>
            <a:ext cx="26654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90000" y="4268880"/>
            <a:ext cx="26654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1378C-F1E4-4DA0-BE77-450194EF8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78BB4-6C6D-4286-B888-95A12D4E1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791640" y="1979280"/>
            <a:ext cx="827892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18FF5-1CE4-4854-B2FC-889AD5B1C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827892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79876-68E8-47A0-8EE2-B1C8B46AC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403992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33880" y="1979280"/>
            <a:ext cx="403992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E6DFB-5940-4CD8-961D-B041578C3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8C81B-386E-430C-8240-281B2845D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2920" y="553680"/>
            <a:ext cx="88549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EA283-DDE4-4D9E-80CE-479CBB7D5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40399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33880" y="1979280"/>
            <a:ext cx="403992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791640" y="4268880"/>
            <a:ext cx="40399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F255E-E65D-4500-8251-A1A85F1D6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91640" y="1979280"/>
            <a:ext cx="827892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B9B3D-2B7B-4BFF-B389-1089438BA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403992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33880" y="1979280"/>
            <a:ext cx="40399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33880" y="4268880"/>
            <a:ext cx="40399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3EE9F-E3B1-4077-BAC1-816CDBF14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40399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33880" y="1979280"/>
            <a:ext cx="40399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91640" y="4268880"/>
            <a:ext cx="82789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D87A4-F792-4625-A736-06365C13C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82789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91640" y="4268880"/>
            <a:ext cx="82789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815CF-BAD4-428F-90DB-0CC60DF67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40399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33880" y="1979280"/>
            <a:ext cx="40399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91640" y="4268880"/>
            <a:ext cx="40399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33880" y="4268880"/>
            <a:ext cx="40399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01F8E-A5C2-49AE-AEBD-F7221B908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26654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90640" y="1979280"/>
            <a:ext cx="26654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390000" y="1979280"/>
            <a:ext cx="26654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791640" y="4268880"/>
            <a:ext cx="26654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90640" y="4268880"/>
            <a:ext cx="26654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390000" y="4268880"/>
            <a:ext cx="26654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F02F1-A4DC-47FD-8189-8A58DB2D8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827892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9E038-7028-4B68-99AB-EA4CC3A86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403992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33880" y="1979280"/>
            <a:ext cx="403992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FD5F9-65F7-4799-B8B0-59EAD5FE5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04A3A-48BD-4869-9347-70D8CB0D4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553680"/>
            <a:ext cx="88549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C86B5-C6A2-4975-84A2-BA2C85E54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40399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33880" y="1979280"/>
            <a:ext cx="403992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91640" y="4268880"/>
            <a:ext cx="40399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3F85F-5864-441B-BCCB-1B7426F86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403992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33880" y="1979280"/>
            <a:ext cx="40399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3880" y="4268880"/>
            <a:ext cx="40399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4FB21-37D6-4667-A1DC-41B216526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40399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33880" y="1979280"/>
            <a:ext cx="40399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91640" y="4268880"/>
            <a:ext cx="82789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6E4BB-2103-4345-8FA2-24D3CB1A2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678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25785C-260C-4540-B698-21122E24DF0C}" type="slidenum">
              <a: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91640" y="1979280"/>
            <a:ext cx="827892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39640" y="641988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41988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083360" y="641988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8B0963-3CDB-4471-ACCB-5CD362F76B66}" type="slidenum">
              <a: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3280" y="554040"/>
            <a:ext cx="88567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Maquina de teletransporte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792000" y="1979640"/>
            <a:ext cx="82807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royecto Multilateral Comenius: ¿Que le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IES Isabel de Villen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rofesor: José Andrés Mol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lumno: Jennyfer Torres 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Grupo:4º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6064200" y="4680000"/>
            <a:ext cx="3295800" cy="223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3280" y="554040"/>
            <a:ext cx="88567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3280" y="554040"/>
            <a:ext cx="88567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3280" y="554040"/>
            <a:ext cx="88567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49000" y="738000"/>
            <a:ext cx="8869320" cy="6381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4273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80"/>
                </a:solidFill>
                <a:latin typeface="Arial"/>
              </a:rPr>
              <a:t>¿Te deprime tu vieja rutina mañanera? ¿Estás hasta el gorro de plantarte en el trabajo con hambre, apestando y de mal humor? ¿Detestas llegar tarde a todas partes? Pues... ¡prepárate para animar tu despertar con nuestra maravilla tecnológica de supertransporte y ultracombinación pendiente de patente! Come, dúchate y haz tus necesidades, y luego teletranspórtate exactamente al lugar al que tengas que ir... ¡en menos de la mitad de tiempo! ¡Sal de la cama y adéntrate en el maravilloso mundo de la tecnología al recoger hoy tu máquina de teletransporte "Elimina la rutina"!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3280" y="554040"/>
            <a:ext cx="88567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90320" y="1160640"/>
            <a:ext cx="8869320" cy="4294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80"/>
                </a:solidFill>
                <a:latin typeface="Arial"/>
              </a:rPr>
              <a:t>Con una capacidad ocultale, para que nadie quiera usarla por ti, tiene una ligera estética parecida a la de una ducha. Que mas se puede pedir? Puedes ir a cualquier parte del mundo, recién duchado y listo para cualquier situación. 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1584360" y="4176720"/>
            <a:ext cx="6408720" cy="280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3280" y="554040"/>
            <a:ext cx="88567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92000" y="1979640"/>
            <a:ext cx="828072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4273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80"/>
                </a:solidFill>
                <a:latin typeface="Arial"/>
              </a:rPr>
              <a:t>Esta ducha – maquina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4273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80"/>
                </a:solidFill>
                <a:latin typeface="Arial"/>
              </a:rPr>
              <a:t>de teletransporte lleva 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4273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80"/>
                </a:solidFill>
                <a:latin typeface="Arial"/>
              </a:rPr>
              <a:t>incluida una radio y un 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4273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80"/>
                </a:solidFill>
                <a:latin typeface="Arial"/>
              </a:rPr>
              <a:t>reproductor mp3, para 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4273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80"/>
                </a:solidFill>
                <a:latin typeface="Arial"/>
              </a:rPr>
              <a:t>que puedas escuchar las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4273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80"/>
                </a:solidFill>
                <a:latin typeface="Arial"/>
              </a:rPr>
              <a:t>noticias y la musica 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4273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80"/>
                </a:solidFill>
                <a:latin typeface="Arial"/>
              </a:rPr>
              <a:t>actual mientras realizas 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4273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80"/>
                </a:solidFill>
                <a:latin typeface="Arial"/>
              </a:rPr>
              <a:t>tu propio viaje. 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5616720" y="431640"/>
            <a:ext cx="4381200" cy="654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3280" y="554040"/>
            <a:ext cx="88567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77360" y="1068480"/>
            <a:ext cx="8869320" cy="4294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80"/>
                </a:solidFill>
                <a:latin typeface="Arial"/>
              </a:rPr>
              <a:t>Y lo mejor de todo es que no usa combustible, solo debes pagar el dinero que cuesta esta “cabina” y podrás ir a cualquier parte del mundo en cuestión de minutos. 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1859040" y="3095640"/>
            <a:ext cx="5987880" cy="342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03280" y="554040"/>
            <a:ext cx="88567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29920" y="1266840"/>
            <a:ext cx="8869320" cy="4294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80"/>
                </a:solidFill>
                <a:latin typeface="Arial"/>
              </a:rPr>
              <a:t>Escaqueate de tu rutina, despiértate con el tiempo justo para ir a trabajar, llega siempre a tiempo a los sitios a la hora que has quedado y manteniendo una higiene, limpieza y olor puro, y perfecto. 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1079640" y="3809880"/>
            <a:ext cx="7632720" cy="317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554040"/>
            <a:ext cx="88567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8869320" cy="5542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4273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80"/>
                </a:solidFill>
                <a:latin typeface="Arial"/>
              </a:rPr>
              <a:t>Encima cuenta con un 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4273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80"/>
                </a:solidFill>
                <a:latin typeface="Arial"/>
              </a:rPr>
              <a:t>lector de la mano para 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4273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80"/>
                </a:solidFill>
                <a:latin typeface="Arial"/>
              </a:rPr>
              <a:t>que así solo puedas 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4273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80"/>
                </a:solidFill>
                <a:latin typeface="Arial"/>
              </a:rPr>
              <a:t>acceder tu y los 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4273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80"/>
                </a:solidFill>
                <a:latin typeface="Arial"/>
              </a:rPr>
              <a:t>acompañantes que lo 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4273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80"/>
                </a:solidFill>
                <a:latin typeface="Arial"/>
              </a:rPr>
              <a:t>desees. Nadie podrá 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4273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80"/>
                </a:solidFill>
                <a:latin typeface="Arial"/>
              </a:rPr>
              <a:t>aprobecharse de ti 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4273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80"/>
                </a:solidFill>
                <a:latin typeface="Arial"/>
              </a:rPr>
              <a:t>debida a ciertas 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4273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80"/>
                </a:solidFill>
                <a:latin typeface="Arial"/>
              </a:rPr>
              <a:t>circunstancias. 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5111640" y="720720"/>
            <a:ext cx="4194360" cy="619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03280" y="554040"/>
            <a:ext cx="88567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4760" y="1425600"/>
            <a:ext cx="8869320" cy="4294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80"/>
                </a:solidFill>
                <a:latin typeface="Arial"/>
              </a:rPr>
              <a:t>Con una capacidad para 20 personas. Así podrás realizar los viajes soñados por muchísimo menos precio y acomopañado de la gente que quieres.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863640" y="3384720"/>
            <a:ext cx="8567640" cy="3504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3280" y="554040"/>
            <a:ext cx="88567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92000" y="1979640"/>
            <a:ext cx="828072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4273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80"/>
                </a:solidFill>
                <a:latin typeface="Arial"/>
              </a:rPr>
              <a:t>DUCHA-MAQUINA DE TELETRANSPORTE, mas un reproductor de radio y musica, con pantalla plana de 48” y de regalo sales de baño, una colección inédita de geles y champús y todo por el módico precio de 5.000€. 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4273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80"/>
                </a:solidFill>
                <a:latin typeface="Arial"/>
              </a:rPr>
              <a:t>¿Te lo vas a perder?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4273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80"/>
                </a:solidFill>
                <a:latin typeface="Arial"/>
              </a:rPr>
              <a:t>No dejes escapar esta promoción, hasta agotar existencias.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6T08:37:25Z</dcterms:created>
  <dc:creator>villena4dos11 villena4dos11</dc:creator>
  <dc:description/>
  <dc:language>en-US</dc:language>
  <cp:lastModifiedBy>lliurex </cp:lastModifiedBy>
  <dcterms:modified xsi:type="dcterms:W3CDTF">2014-06-16T08:43:49Z</dcterms:modified>
  <cp:revision>2</cp:revision>
  <dc:subject/>
  <dc:title/>
</cp:coreProperties>
</file>