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49D-FD96-42BB-A98B-352610A3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880-0B44-45A8-8E11-63D8F3FA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525-D9E0-4ABA-BF37-2A1A49E7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E6C-A464-4B23-B69E-1D7B0FDD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4712-B087-4AB4-A281-4050A3B3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8763-E9F8-4EAF-81FD-04D3B883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1E78-426E-4530-982E-4EBBF8CF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BD71-F764-40A8-8568-CD34A298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3CF5-ABE0-4BED-8CFE-5C102D05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F3E2-BEA8-4672-961E-C7E096B2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5677-D28E-4B57-9879-C4832CC7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B91-688E-46ED-AEA8-671382B5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6810-2D4E-4B28-BA3A-091E02C1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D54E-787D-4C16-9881-757459C5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5780-080D-4E97-A0CE-4A533B73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BE7E-446B-4BC3-BCE8-897B762E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7BC8-033E-46DB-A515-CC1F44DD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829-AA6F-43E7-9CBE-31FDFD76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218-7978-49FA-AB32-A73044BE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411-04BF-445A-AE87-E14C636B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AEB-19B2-4D05-B53C-92A516EB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A4B-2C80-418B-B9F2-F1AEDD08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2A4-A4D7-4C85-A182-9858EAE5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35B-45FD-4401-AA77-361C0F44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E73A0-4EF2-4165-BFDC-BF2255FAAD9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D429D-70E7-4382-9FCA-9127B4D89D1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quina de teletransport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 ¿Que l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o: Jennyfer Torres 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4º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64200" y="4680000"/>
            <a:ext cx="32958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000" y="738000"/>
            <a:ext cx="886932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deprime tu vieja rutina mañanera? ¿Estás hasta el gorro de plantarte en el trabajo con hambre, apestando y de mal humor? ¿Detestas llegar tarde a todas partes? Pues... ¡prepárate para animar tu despertar con nuestra maravilla tecnológica de supertransporte y ultracombinación pendiente de patente! Come, dúchate y haz tus necesidades, y luego teletranspórtate exactamente al lugar al que tengas que ir... ¡en menos de la mitad de tiempo! ¡Sal de la cama y adéntrate en el maravilloso mundo de la tecnología al recoger hoy tu máquina de teletransporte "Elimina la rutina"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0320" y="11606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ocultale, para que nadie quiera usarla por ti, tiene una ligera estética parecida a la de una ducha. Que mas se puede pedir? Puedes ir a cualquier parte del mundo, recién duchado y listo para cualquier situación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84360" y="4176720"/>
            <a:ext cx="6408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ta ducha – maquin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 teletransporte llev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incluida una radio y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reproductor mp3,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puedas escuchar la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ticias y la music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tual mientras realiz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tu propio viaje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16720" y="431640"/>
            <a:ext cx="4381200" cy="654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7360" y="106848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Y lo mejor de todo es que no usa combustible, solo debes pagar el dinero que cuesta esta “cabina” y podrás ir a cualquier parte del mundo en cuestión de minuto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59040" y="3095640"/>
            <a:ext cx="59878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9920" y="126684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scaqueate de tu rutina, despiértate con el tiempo justo para ir a trabajar, llega siempre a tiempo a los sitios a la hora que has quedado y manteniendo una higiene, limpieza y olor puro, y perfecto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79640" y="3809880"/>
            <a:ext cx="763272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554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Encima cuenta con u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lector de la mano par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que así solo pued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ceder tu y lo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compañantes que lo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sees. Nadie podrá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aprobecharse de ti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ebida a cierta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ircunstancia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11640" y="720720"/>
            <a:ext cx="41943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60" y="1425600"/>
            <a:ext cx="886932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Con una capacidad para 20 personas. Así podrás realizar los viajes soñados por muchísimo menos precio y acomopañado de la gente que quiere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63640" y="3384720"/>
            <a:ext cx="85676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DUCHA-MAQUINA DE TELETRANSPORTE, mas un reproductor de radio y musica, con pantalla plana de 48” y de regalo sales de baño, una colección inédita de geles y champús y todo por el módico precio de 5.000€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¿Te lo vas a perder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Arial"/>
              </a:rPr>
              <a:t>No dejes escapar esta promoción, hasta agotar existencia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8:37:25Z</dcterms:created>
  <dc:creator>villena4dos11 villena4dos11</dc:creator>
  <dc:description/>
  <dc:language>en-US</dc:language>
  <cp:lastModifiedBy>lliurex </cp:lastModifiedBy>
  <dcterms:modified xsi:type="dcterms:W3CDTF">2014-06-16T08:43:49Z</dcterms:modified>
  <cp:revision>2</cp:revision>
  <dc:subject/>
  <dc:title/>
</cp:coreProperties>
</file>