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352BA-0490-41C1-893A-1AB9FA4A61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88600"/>
            <a:ext cx="8226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BC623-BC49-4B79-A0A6-0B05D1D6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418860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34E90-D045-4C3C-8819-05B4F6B8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8860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418860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418860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15B63-B18F-44E4-BA32-E759E2B73B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EF056-0B99-4689-944D-C4C476AB1A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1201A-57E7-41C0-B8E6-3258019A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AB9A5-F7C4-4ADC-83B1-9E121EAF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BABC24-A759-49D6-BD9D-A37AC040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58C9E-A469-4995-803D-BE6ED857D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F6A88-094D-464D-8B2F-C577CA06D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4911B-8A6F-4C66-B14B-92C16B45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529DB-4B7F-4C31-B095-B5A87805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418860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ED6BD-0B3D-429D-AD19-99CF70E6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8226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30B1C-E1CF-4E39-A5A4-1A389005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88600"/>
            <a:ext cx="8226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1371C-36BC-4645-80EA-C2F25EA8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418860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6D8CE6-E6DF-42F5-9B16-81A29821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8860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418860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4188600"/>
            <a:ext cx="26485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D0A98-348E-4C28-B91F-451F298A45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F505E-A6A3-48D4-B517-E9DB1742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7E06B-0742-4F7C-B77D-96F51DCB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14121-8CAC-408A-BCEA-D07AEF59A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A07FC-20EC-4740-8B2C-0F10664F8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6479C-3AF9-4185-97CF-91EDDC15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418860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8AD3D-3700-414C-B14B-E1830233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88600"/>
            <a:ext cx="82263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3EBBF-2446-4777-9BBB-B2D06558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916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ECC94-4107-454A-863D-F810B30BEC93}" type="datetime">
              <a:rPr b="0" lang="es-ES" sz="18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041C5-9AEF-4A42-9041-5DC9C2D083E1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63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CCAA2-0593-4700-870A-C8C6DE24470B}" type="datetime">
              <a:rPr b="0" lang="es-E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FC641F-9B73-48C0-A349-BB946928FDFE}" type="slidenum">
              <a:rPr b="0" lang="es-E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1123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a nevera que 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4292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8b8b8b"/>
                </a:solidFill>
                <a:latin typeface="Calibri"/>
              </a:rPr>
              <a:t>Proyecto Multilateral Comenius: ¿Qué le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8b8b8b"/>
                </a:solidFill>
                <a:latin typeface="Calibri"/>
              </a:rPr>
              <a:t>IES Isabel de Vill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8b8b8b"/>
                </a:solidFill>
                <a:latin typeface="Calibri"/>
              </a:rPr>
              <a:t>Profesor: José Andrés Moli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8b8b8b"/>
                </a:solidFill>
                <a:latin typeface="Calibri"/>
              </a:rPr>
              <a:t>Alumno: Valeria Rico Porter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8b8b8b"/>
                </a:solidFill>
                <a:latin typeface="Calibri"/>
              </a:rPr>
              <a:t>Curso:3º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Benefic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estas mala, no te puedes levantar y necesitas algo, enseguida lo tie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hace mucha calor y no quieres salir de la piscina la nevera va hacia 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50920" y="3860640"/>
            <a:ext cx="4608720" cy="25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840" y="111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27280" y="3043080"/>
            <a:ext cx="647640" cy="792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374920" y="3033720"/>
            <a:ext cx="536400" cy="787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879640" y="2998800"/>
            <a:ext cx="879480" cy="792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3735360" y="2946240"/>
            <a:ext cx="852480" cy="852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4587840" y="297648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5342040" y="3000240"/>
            <a:ext cx="820800" cy="820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6127920" y="3003480"/>
            <a:ext cx="739440" cy="817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6732720" y="2998800"/>
            <a:ext cx="780840" cy="7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A NEVERA QUE 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4000" y="1379520"/>
            <a:ext cx="863892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Su funcionami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nevera que anda funciona con un mando como el de la tele. Tiene un botón para cada cosa por ejemplo si quieres una Fanta aprietas al botón de querer Fanta y lo trae enseguida corriendo o andando como quieras manejar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mo cargar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nevera que anda no necesita cargarse, pero el mando si que va a pi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81000" y="2998800"/>
            <a:ext cx="2454480" cy="3368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003640" y="2998800"/>
            <a:ext cx="2232360" cy="27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ipo de pil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ila andarina                         pilas nor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2441520" cy="2735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356000" y="2349360"/>
            <a:ext cx="340992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iseños de nevera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2360" y="1339920"/>
            <a:ext cx="3157560" cy="3456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03640" y="1544760"/>
            <a:ext cx="2303280" cy="280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724360" y="1544760"/>
            <a:ext cx="264636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mo conseguirl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consiguen en alguna tienda de electrodoméstic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03280" y="2637000"/>
            <a:ext cx="626436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uanto cuest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ueden llegar a costar 10.000 euros depende del tamaño. Las medianas cuestan 5.000 euros y las pequeñitas 1.000 eu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" y="3048120"/>
            <a:ext cx="3362400" cy="3809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367080" y="3500280"/>
            <a:ext cx="2933640" cy="3356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315120" y="3213000"/>
            <a:ext cx="2516040" cy="36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nsecuenci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se estropea, repararla cuesta mucho din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no la cuidas bien (no la limpias) no te hará caso cuando la mane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5240" y="3125880"/>
            <a:ext cx="29098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