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B84F6-06F4-4999-BDCA-369E510360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79EC2-9657-47F9-9885-32B4A76B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3AC4C-4861-4BBF-8DEC-708D5D86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F246E-314D-476A-A165-98D19ED881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4641D-5DD9-49CC-A758-627D234539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D985C-485C-4337-B71E-591D215E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E617F-C1EF-49D7-91E8-B0858DCA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CCB83-02A7-4B7A-A743-776E7F3C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2E047-E10C-4987-8F91-C8A18B97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0033D-BDF1-41E5-8C72-D969C1FA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185EE-3944-48F9-8AAA-64257365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22822-4F89-4D32-B3CA-DF3831C7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51932-93F8-4AF0-948F-B31690D5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7C0D3-4AFF-473F-B3C2-5BADDFAF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8B33A-646E-4EF3-B7D1-71035FCD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DBABC-F9E4-4988-A500-1D944DEF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73551-6D56-45FF-8D07-1D720D6172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0A61F-7057-4C65-8D56-7B228652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C73BA-EEC2-49EB-A3B8-53FE234D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F66B0-33E3-4293-901D-84BAD4C6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5AA12-1C77-4211-98D0-57C995DA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19228-99E9-4D61-92F3-00595185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38DC1-8E2C-4FFC-BEF0-EA4928E9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9E579-51B2-4A68-B3DC-902E9BEF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37919-D99E-49E0-8B77-2E7101A54FA6}" type="datetime">
              <a:rPr b="0" lang="es-ES" sz="18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E9C54-54E0-4011-ADB5-A46185CBA5D4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63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5CA4A-7445-477E-A03A-62E81068D68C}" type="datetime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749E9-8C42-4F38-96FF-E83FC8FFC5F7}" type="slidenum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12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nevera que 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9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Proyecto Multilateral Comenius: ¿Qué le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IES Isabel de Vill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Profesor: José Andrés Moli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Alumno: Valeria Rico Porte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Curso:3º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Benef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estas mala, no te puedes levantar y necesitas algo, enseguida lo ti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hace mucha calor y no quieres salir de la piscina la nevera va hacia 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4608720" cy="25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840" y="11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27280" y="3043080"/>
            <a:ext cx="647640" cy="79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374920" y="3033720"/>
            <a:ext cx="536400" cy="787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879640" y="2998800"/>
            <a:ext cx="879480" cy="792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735360" y="2946240"/>
            <a:ext cx="852480" cy="852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587840" y="29764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5342040" y="3000240"/>
            <a:ext cx="820800" cy="820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6127920" y="3003480"/>
            <a:ext cx="739440" cy="817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732720" y="2998800"/>
            <a:ext cx="78084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NEVERA QUE 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1379520"/>
            <a:ext cx="86389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u funcion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nevera que anda funciona con un mando como el de la tele. Tiene un botón para cada cosa por ejemplo si quieres una Fanta aprietas al botón de querer Fanta y lo trae enseguida corriendo o andando como quieras manejar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o cargar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nevera que anda no necesita cargarse, pero el mando si que va a pi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81000" y="2998800"/>
            <a:ext cx="2454480" cy="3368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03640" y="2998800"/>
            <a:ext cx="223236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ipo de pi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ila andarina                         pilas nor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441520" cy="273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356000" y="2349360"/>
            <a:ext cx="34099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iseños de nevera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2360" y="1339920"/>
            <a:ext cx="3157560" cy="345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03640" y="1544760"/>
            <a:ext cx="2303280" cy="280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724360" y="1544760"/>
            <a:ext cx="26463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o conseguir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consiguen en alguna tienda de electrodomést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62643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uanto cuest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ueden llegar a costar 10.000 euros depende del tamaño. Las medianas cuestan 5.000 euros y las pequeñitas 1.000 e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" y="3048120"/>
            <a:ext cx="3362400" cy="3809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67080" y="3500280"/>
            <a:ext cx="2933640" cy="3356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15120" y="3213000"/>
            <a:ext cx="251604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nsecuenc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se estropea, repararla cuesta mucho din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no la cuidas bien (no la limpias) no te hará caso cuando la mane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5240" y="3125880"/>
            <a:ext cx="29098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