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7FEEB-0BF6-4823-8556-8E17483BD6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7939-19B5-4F50-A7A5-78E41C7C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0CFBB-E446-498E-80F5-ED92E1D9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8C9C-FC67-4A39-9E09-D423F477A8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FD000-A841-4C4C-ACF3-77F25BBF1E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FD07A-DDA2-4CFF-A8C5-62BDD982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D0482-FE78-46D2-9F26-AEE5296F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4AA2E-72EC-4836-A59E-0A445323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21E79-C6CD-4B8C-8FA3-B0E2ABFA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A95A8-B8C3-48B1-9FC5-954B3964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8F4E7-F09D-400A-8D0A-DC5E6175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883A-B8AA-4900-8A36-F42604B4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DA531-2398-4E44-A987-EC2482EE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0D2F2-21AC-4FA4-B1FF-D61E4C8B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47826-2043-4AA5-BE2F-3EEBC3D2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1835D-3D0B-4DBE-98F9-E1FF5817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91E7C-DBA1-4787-9528-3AD8DC1A29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0690-07F8-4723-86C4-4A1E474C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8398-5FB2-4DE2-8568-7BDED434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CA06-AC34-455A-9224-517A252F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890A-496B-4D47-BBE0-6F3080F5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0464-1404-42E1-BEFC-66D99A7A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4340F-05E7-4463-A3EA-5025A3FE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11AA-49A2-4069-87AF-4B34EE15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19876-DCA3-41A6-BA01-6D87B7D73EC0}" type="datetime">
              <a:rPr b="0" lang="es-ES" sz="18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89196-98CD-4820-837B-9AB9718E3C75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63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D6AFA-4734-4393-9A42-7C94A6ACF2A3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854F0-CF09-49CA-9004-89978F06C7D3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yecto Multilateral Comenius: ¿Qué le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fesor: José Andrés Moli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Alumno: Valeria Rico Port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Curso:3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stas mala, no te puedes levantar y necesitas algo, enseguida lo ti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hace mucha calor y no quieres salir de la piscina la nevera va hacia 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460872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84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27280" y="304308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74920" y="3033720"/>
            <a:ext cx="536400" cy="787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879640" y="2998800"/>
            <a:ext cx="879480" cy="79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735360" y="294624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587840" y="29764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342040" y="3000240"/>
            <a:ext cx="820800" cy="82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127920" y="3003480"/>
            <a:ext cx="739440" cy="81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32720" y="2998800"/>
            <a:ext cx="78084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379520"/>
            <a:ext cx="86389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u funcio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funciona con un mando como el de la tele. Tiene un botón para cada cosa por ejemplo si quieres una Fanta aprietas al botón de querer Fanta y lo trae enseguida corriendo o andando como quieras maneja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argar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no necesita cargarse, pero el mando si que va a pi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81000" y="2998800"/>
            <a:ext cx="2454480" cy="3368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2998800"/>
            <a:ext cx="223236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ipo de pi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ila andarina                         pilas n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441520" cy="273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3409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iseños de never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2360" y="1339920"/>
            <a:ext cx="315756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3640" y="1544760"/>
            <a:ext cx="2303280" cy="280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24360" y="1544760"/>
            <a:ext cx="2646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onseguir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nsiguen en alguna tienda de electrodomés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to cue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ueden llegar a costar 10.000 euros depende del tamaño. Las medianas cuestan 5.000 euros y las pequeñitas 1.000 e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" y="3048120"/>
            <a:ext cx="3362400" cy="3809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67080" y="3500280"/>
            <a:ext cx="2933640" cy="335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15120" y="3213000"/>
            <a:ext cx="251604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se estropea, repararla cuesta mucho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la cuidas bien (no la limpias) no te hará caso cuando la mane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5240" y="3125880"/>
            <a:ext cx="29098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