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4F856-6F77-410F-AB8F-776E74939D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188600"/>
            <a:ext cx="8226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9B72F-39AD-44E2-9FF8-3B3E3A7FF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8860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418860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FDD93-0F01-4B3C-A4E6-0B769B0D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188600"/>
            <a:ext cx="264852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4188600"/>
            <a:ext cx="264852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4188600"/>
            <a:ext cx="264852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0F481-0B32-4BD7-83EF-29BF5486C8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2CB553-63E6-48C3-A613-BC5D5E92EF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389047-39AC-486F-AEDD-03690F17A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74DB47-52E8-41E0-8D99-AA49E5AA1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FDD631-0237-46CF-B499-4B055D9A8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2D43A9-3D6F-4150-98E9-FEF91CC76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B1B2E0-2AEC-4C06-9C57-84724D558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8860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08D05C-8F61-4AA7-8430-B5D672C32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784A0-0D9C-4447-9C81-E8F74133E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418860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4FD5C2-62FF-42C9-98B6-E6808E265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88600"/>
            <a:ext cx="8226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BFAD69-8F76-40A9-9EF4-02797EB84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88600"/>
            <a:ext cx="8226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92CF35-D3E6-4817-AC5C-6D7BA9362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8860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418860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399253-0A7E-4153-AD47-17540030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88600"/>
            <a:ext cx="264852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8200" y="4188600"/>
            <a:ext cx="264852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560" y="4188600"/>
            <a:ext cx="264852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53E2D0-F0DE-429B-8366-575268D969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58BBA-95E4-4ED2-ABEF-6A12FDAE0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57CE4-8766-44BD-8179-41B876985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6E0D0-38EC-4436-9498-CA2C679EF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47555-FD30-4CA4-8195-B47877442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18860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FE3A6-64D7-4C09-AB84-89C1A2B4A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418860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3D514-5A1C-4893-A683-ECEC40EE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188600"/>
            <a:ext cx="8226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6D2F6-3D61-4590-95B6-683D01187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130480"/>
            <a:ext cx="7769160" cy="14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31BAD6-C5A3-4918-B3AD-6F53DEC8F30C}" type="datetime">
              <a:rPr b="0" lang="es-ES" sz="18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A90008-481E-42F6-8C39-149CCC049756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63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0131E7-19FD-4CDB-83D3-D123242E207A}" type="datetime">
              <a:rPr b="0" lang="es-E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01A3A1-4192-40FD-B7E3-957D527E48C5}" type="slidenum">
              <a:rPr b="0" lang="es-E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1123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La nevera que a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04292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8b8b8b"/>
                </a:solidFill>
                <a:latin typeface="Calibri"/>
              </a:rPr>
              <a:t>Proyecto Multilateral Comenius: ¿Qué le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8b8b8b"/>
                </a:solidFill>
                <a:latin typeface="Calibri"/>
              </a:rPr>
              <a:t>IES Isabel de Ville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8b8b8b"/>
                </a:solidFill>
                <a:latin typeface="Calibri"/>
              </a:rPr>
              <a:t>Profesor: José Andrés Molin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8b8b8b"/>
                </a:solidFill>
                <a:latin typeface="Calibri"/>
              </a:rPr>
              <a:t>Alumno: Valeria Rico Porter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8b8b8b"/>
                </a:solidFill>
                <a:latin typeface="Calibri"/>
              </a:rPr>
              <a:t>Curso:3º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Benefic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i estas mala, no te puedes levantar y necesitas algo, enseguida lo tie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i hace mucha calor y no quieres salir de la piscina la nevera va hacia 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050920" y="3860640"/>
            <a:ext cx="4608720" cy="25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23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840" y="1116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727280" y="3043080"/>
            <a:ext cx="647640" cy="792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2374920" y="3033720"/>
            <a:ext cx="536400" cy="7873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2879640" y="2998800"/>
            <a:ext cx="879480" cy="792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3735360" y="2946240"/>
            <a:ext cx="852480" cy="8524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4587840" y="297648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7"/>
          <a:stretch/>
        </p:blipFill>
        <p:spPr>
          <a:xfrm>
            <a:off x="5342040" y="3000240"/>
            <a:ext cx="820800" cy="820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8"/>
          <a:stretch/>
        </p:blipFill>
        <p:spPr>
          <a:xfrm>
            <a:off x="6127920" y="3003480"/>
            <a:ext cx="739440" cy="817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9"/>
          <a:stretch/>
        </p:blipFill>
        <p:spPr>
          <a:xfrm>
            <a:off x="6732720" y="2998800"/>
            <a:ext cx="780840" cy="7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LA NEVERA QUE A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24000" y="1379520"/>
            <a:ext cx="863892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Su funcionamien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a nevera que anda funciona con un mando como el de la tele. Tiene un botón para cada cosa por ejemplo si quieres una Fanta aprietas al botón de querer Fanta y lo trae enseguida corriendo o andando como quieras manejar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Como cargarl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a nevera que anda no necesita cargarse, pero el mando si que va a pil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81000" y="2998800"/>
            <a:ext cx="2454480" cy="33685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003640" y="2998800"/>
            <a:ext cx="2232360" cy="27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Tipo de pil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ila andarina                         pilas norm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55640" y="2349360"/>
            <a:ext cx="2441520" cy="2735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356000" y="2349360"/>
            <a:ext cx="340992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iseños de nevera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2360" y="1339920"/>
            <a:ext cx="3157560" cy="3456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03640" y="1544760"/>
            <a:ext cx="2303280" cy="2808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724360" y="1544760"/>
            <a:ext cx="264636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Como conseguirl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 consiguen en alguna tienda de electrodoméstic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403280" y="2637000"/>
            <a:ext cx="626436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Cuanto cuest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ueden llegar a costar 10.000 euros depende del tamaño. Las medianas cuestan 5.000 euros y las pequeñitas 1.000 eu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40" y="3048120"/>
            <a:ext cx="3362400" cy="38098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367080" y="3500280"/>
            <a:ext cx="2933640" cy="3356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315120" y="3213000"/>
            <a:ext cx="2516040" cy="36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Consecuenci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i se estropea, repararla cuesta mucho din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i no la cuidas bien (no la limpias) no te hará caso cuando la mane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75240" y="3125880"/>
            <a:ext cx="2909880" cy="324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