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D48F-F7A3-4C3F-998A-C71EEF633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0428-BD8A-4107-96E0-B679F49A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125F-0C2A-4787-BC44-83A7D0EF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6431-3B4D-4649-A5B7-03A94986B6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29051-1368-4971-97D5-2738B7614B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E7195-E749-42F8-BE31-75F8021A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0F13D-30DF-407E-A1AB-ACD479A9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0522A-8580-45CF-A297-4611B5E2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A26DA-557F-4B0B-A0D2-D6506BEA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4C443-9637-4D82-BA0E-4A6B5C01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A3553-89AF-494C-979F-7306B5B8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8809-3FD8-4718-BB54-CF002EED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9FCB8-DF13-4D54-BB54-E74D29C2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53F02-AD3D-4221-862D-65C2250F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24FC8-01A5-4B80-B2AA-76810496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4B93D-64B5-4388-A84A-FA952CF0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5E368-19D0-453A-983B-B8B521C90F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7660-F5F1-4D10-A6DD-1587C1A6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291B-A359-4589-9CB7-D0232A0D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0929-6DDC-48B3-92B5-000470C5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AE3A-CEEC-48E0-91F3-4580C687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8281-D725-48B6-BBDB-0CA96F8C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E299-F6BA-4DFF-9937-C306F8A1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954A-1C57-4F07-9C71-8FFF5688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6E029-E986-4EE0-BAC1-D0A3D4569269}" type="datetime">
              <a:rPr b="0" lang="es-ES" sz="18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B4C7F-A2EA-4EAA-9E3B-212A48BB6E47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63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F7B82-CFD7-4338-9209-09538688C727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C4282-6E71-4969-9DD7-F491D5B34536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yecto Multilateral Comenius: ¿Qué le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fesor: José Andrés Moli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Alumno: Valeria Rico Port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Curso:3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stas mala, no te puedes levantar y necesitas algo, enseguida lo ti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hace mucha calor y no quieres salir de la piscina la nevera va hacia 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460872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84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27280" y="304308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74920" y="3033720"/>
            <a:ext cx="536400" cy="787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879640" y="2998800"/>
            <a:ext cx="879480" cy="79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735360" y="294624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587840" y="29764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342040" y="3000240"/>
            <a:ext cx="820800" cy="82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127920" y="3003480"/>
            <a:ext cx="739440" cy="81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32720" y="2998800"/>
            <a:ext cx="78084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379520"/>
            <a:ext cx="86389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u funcio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funciona con un mando como el de la tele. Tiene un botón para cada cosa por ejemplo si quieres una Fanta aprietas al botón de querer Fanta y lo trae enseguida corriendo o andando como quieras maneja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argar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no necesita cargarse, pero el mando si que va a pi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81000" y="2998800"/>
            <a:ext cx="2454480" cy="3368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2998800"/>
            <a:ext cx="223236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ipo de pi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ila andarina                         pilas n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441520" cy="273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3409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iseños de never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2360" y="1339920"/>
            <a:ext cx="315756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3640" y="1544760"/>
            <a:ext cx="2303280" cy="280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24360" y="1544760"/>
            <a:ext cx="2646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onseguir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nsiguen en alguna tienda de electrodomés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to cue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ueden llegar a costar 10.000 euros depende del tamaño. Las medianas cuestan 5.000 euros y las pequeñitas 1.000 e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" y="3048120"/>
            <a:ext cx="3362400" cy="3809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67080" y="3500280"/>
            <a:ext cx="2933640" cy="335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15120" y="3213000"/>
            <a:ext cx="251604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se estropea, repararla cuesta mucho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la cuidas bien (no la limpias) no te hará caso cuando la mane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5240" y="3125880"/>
            <a:ext cx="29098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