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60F-AE90-4F7F-A935-D4BAA6E1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4CC-00A1-4270-8A7C-0B74E1DA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0F5-0183-4826-829C-C000587E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642-B68B-48B0-9D2D-B4656895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CC14-335F-4465-98E8-D791C67A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DA3F-0FE5-46E4-9D1D-BB02E1C5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DF3A-8643-4A5C-B74C-D2F41138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0C44-6094-4814-BDC5-EF569255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4438-905F-4EC6-8E66-7D0F6CDC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D74C-F8CB-4488-B8F9-43D1FC3B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F987-F4AE-4784-BCA3-0E9C7DB8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08B-1F95-428A-AD45-E50B018F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DD0A-DA89-42A8-BB79-61A6A11C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D06D-0C37-43D1-BD68-4DAB0F2A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053C-5575-4BC5-9AB1-3EF679AC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47AF-1AE8-4ABB-9E0C-325EFB93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B0CA-8A84-4777-A3DA-0F86E1F4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C1A-72E1-4735-AE67-0A09C954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6CF-F9BF-4B48-8C11-A73EAEF6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665-1034-4190-A317-E72DD26F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E40-2CB7-40B4-AD02-262CFED7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AF9-DC97-41BB-A2DA-F45DEC3C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1C4-3C0C-4ABC-81CA-535862F8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C16-8973-4FF4-A143-0696BD4C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E9B44-0D82-4558-8E3E-84996206B58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67080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670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670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3CFFD-EB7A-4505-A06C-FEBD1DFDC47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os pantalones calient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 Multilateral Comenius: ¿Qué le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ES Isabel de Vil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fesor: José Andrés M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umna: Tania Rayero Ll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rupo: 1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912000" y="1368360"/>
            <a:ext cx="2376360" cy="568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600360" y="4464000"/>
            <a:ext cx="2541600" cy="259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55640" y="4751280"/>
            <a:ext cx="226872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En que consiste 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invierno, cuando más frío hace, necesitamos calor cuando salimos a la calle, con estos pantalones, es posible. Al ponertelos sentirás como se te calientan las piernas (SIN QUEMARTE) y nunca pasarás frío. Estos pantalones, además de ser muy útiles, son estilosos y hay tanto para mujeres, como para homb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79640" y="3527280"/>
            <a:ext cx="784836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ugar de fabricació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e producto a sido diseñado en España, con una tela especial para no quemarse las piernas, también son elásticos para poder moverse, por lo que son muy cóm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92000" y="4022640"/>
            <a:ext cx="5040360" cy="2239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624720" y="2664000"/>
            <a:ext cx="244800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Talla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llas de mujer: de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llas de hombre: de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personas obesas también hay tallas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98400" y="3240000"/>
            <a:ext cx="4341960" cy="388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335640" y="1440000"/>
            <a:ext cx="3333960" cy="53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Tiendas cercanas para comprar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roducto está en todas las tiendas de ropa de Nuevo Centro, Corte Inglés, Aqua, El Sale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mbién es posible comprarlos en otros países de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3640" y="3313080"/>
            <a:ext cx="3095640" cy="3527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96000" y="3311640"/>
            <a:ext cx="36716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Los pantalon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ay diferentes tipos de pantal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634080" y="44640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08720" y="1440000"/>
            <a:ext cx="2952720" cy="251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527280" y="3311640"/>
            <a:ext cx="2519640" cy="230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03280" y="2664000"/>
            <a:ext cx="2663640" cy="39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Como contactar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éis llamar al tlf. : 6142911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so de llamar a tiendas, teneís que marcar el número del depart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73480" y="2909880"/>
            <a:ext cx="3278520" cy="4146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152360" y="3384720"/>
            <a:ext cx="29530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511280"/>
            <a:ext cx="899964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s pantalones cuestan 56,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so de personas obesas, cuestan 62,90, ya que hemos tenido que añadir más tela para fabric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51040" y="2741760"/>
            <a:ext cx="3333600" cy="439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21240" y="2735280"/>
            <a:ext cx="3722760" cy="421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0T06:40:01Z</dcterms:created>
  <dc:creator>villena1bc12 villena1bc12</dc:creator>
  <dc:description/>
  <dc:language>en-US</dc:language>
  <cp:lastModifiedBy>villena1bc12 villena1bc12</cp:lastModifiedBy>
  <dcterms:modified xsi:type="dcterms:W3CDTF">2014-06-13T07:04:15Z</dcterms:modified>
  <cp:revision>4</cp:revision>
  <dc:subject/>
  <dc:title/>
</cp:coreProperties>
</file>