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CC1-403C-40AD-9A4E-A25B2A34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756-5929-4EDF-B6EF-8DA821FF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01B-2832-4F4D-A9D9-8168442F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333-6CC0-4BF6-9AF3-555C35F8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4A31-914D-41DC-82C7-00BA2863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9957-492F-45E3-9829-DEFD8F4D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0D7B-1140-4C36-B781-03A2E41A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D788-02D9-45F2-BD71-A96D11DD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933D-1A0A-4556-AA01-8629FF7B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EB53-F144-4B80-BE31-EF2ACB93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8B7A-D681-4A0F-99C6-7B445A27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7C2-A766-450C-B7B8-5343A70D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96F2-72E3-4ABB-A29C-E570C5F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2442-D014-40B8-8F79-2ED71FAC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9F90-A2C0-4550-B9A2-5785C890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8434-DC35-4A2E-BE1F-D116F526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C4A1-F1CA-48DB-97A9-2F9C1C7E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7D6-5D3C-458A-99FE-F6E59B1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D5D-139C-4B88-B75B-288F6E33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692-084B-4E6F-882F-17040DCE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5E4-4C9F-42B0-90E8-D9482CD5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42E-3B9E-4307-81D6-CEBE098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932-8C9E-4722-98BF-EAB1AE81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6FE-99B8-4AB2-BAFA-C0B253E4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B0DC7-128C-4196-A39F-E934A41BB37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9B18A-9E4C-4F58-BCF5-EB9E5A5F7DD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 calient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 Multilateral Comenius: ¿Qué le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umna: Tania Rayero Ll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upo: 1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12000" y="1368360"/>
            <a:ext cx="2376360" cy="568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00360" y="4464000"/>
            <a:ext cx="254160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5640" y="4751280"/>
            <a:ext cx="22687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En que consiste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invierno, cuando más frío hace, necesitamos calor cuando salimos a la calle, con estos pantalones, es posible. Al ponertelos sentirás como se te calientan las piernas (SIN QUEMARTE) y nunca pasarás frío. Estos pantalones, además de ser muy útiles, son estilosos y hay tanto para mujeres, como para ho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79640" y="3527280"/>
            <a:ext cx="78483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ugar de fabricació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producto a sido diseñado en España, con una tela especial para no quemarse las piernas, también son elásticos para poder moverse, por lo que son muy cóm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2000" y="4022640"/>
            <a:ext cx="5040360" cy="2239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624720" y="2664000"/>
            <a:ext cx="244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alla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mujer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hombre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ersonas obesas también hay tallas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8400" y="3240000"/>
            <a:ext cx="4341960" cy="388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35640" y="1440000"/>
            <a:ext cx="333396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iendas cercanas para compr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roducto está en todas las tiendas de ropa de Nuevo Centro, Corte Inglés, Aqua, El Sal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mbién es posible comprarlos en otros países de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3640" y="3313080"/>
            <a:ext cx="3095640" cy="352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96000" y="3311640"/>
            <a:ext cx="3671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y diferentes tipos de pantal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34080" y="4464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8720" y="1440000"/>
            <a:ext cx="29527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527280" y="3311640"/>
            <a:ext cx="2519640" cy="230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03280" y="2664000"/>
            <a:ext cx="2663640" cy="39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Como contact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éis llamar al tlf. : 614291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llamar a tiendas, teneís que marcar el número del depa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3480" y="2909880"/>
            <a:ext cx="3278520" cy="414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52360" y="3384720"/>
            <a:ext cx="2953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511280"/>
            <a:ext cx="89996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s pantalones cuestan 56,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personas obesas, cuestan 62,90, ya que hemos tenido que añadir más tela para fabric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1040" y="2741760"/>
            <a:ext cx="3333600" cy="43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21240" y="2735280"/>
            <a:ext cx="3722760" cy="42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40:01Z</dcterms:created>
  <dc:creator>villena1bc12 villena1bc12</dc:creator>
  <dc:description/>
  <dc:language>en-US</dc:language>
  <cp:lastModifiedBy>villena1bc12 villena1bc12</cp:lastModifiedBy>
  <dcterms:modified xsi:type="dcterms:W3CDTF">2014-06-13T07:04:15Z</dcterms:modified>
  <cp:revision>4</cp:revision>
  <dc:subject/>
  <dc:title/>
</cp:coreProperties>
</file>