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13B-256E-4FE3-9CB4-1D4F1F19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C2E-1893-4506-98EA-0BA8F01F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D6B-AD8E-4BDD-AA55-2A70B932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D4D-E5D3-4B69-B24C-345490ED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C8FB-4BFB-4537-9DC8-A6AC251C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2E70-7212-4AD8-A45D-30D6463C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6DAE-3433-4975-9BD4-7A3C2DC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146-F533-4E75-BAEA-70BCD25B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4B87-DA13-4CF7-A72C-F1B747E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F835-C606-4B47-B83B-F717AE1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9ABB-88C7-4D21-AFD6-588A8E15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AA3-FF51-480A-91F5-50D3D0C6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99A2-DFEE-4BAA-9915-D5F4C49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BB86-6C64-401A-801D-D7C5582F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EBC4-8B54-4DA5-BB92-5F4904C2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F11F-9D54-434C-A3F9-525E7E3C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7A45-F587-4E85-BDE8-38EFB138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7FC-C19D-44BE-AACE-1D0C8A45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F2B-9A2C-4B67-B160-9A9D4C86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E11-F667-49AB-9955-4FD1F939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DBE-C2EF-41DC-A481-05F57AB1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C7B-8DD1-43B6-86DF-DD491EB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B1E-3FC2-4A35-A322-6E1F93F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0E5-7CD5-43D5-9798-D4340F25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F582C-A8CF-49C9-853D-6F47B06135A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A7195-713B-4C99-AA1B-410844B6649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 calient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 Multilateral Comenius: ¿Qué le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umna: Tania Rayero Ll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upo: 1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12000" y="1368360"/>
            <a:ext cx="2376360" cy="568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00360" y="4464000"/>
            <a:ext cx="254160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5640" y="4751280"/>
            <a:ext cx="2268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En que consiste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invierno, cuando más frío hace, necesitamos calor cuando salimos a la calle, con estos pantalones, es posible. Al ponertelos sentirás como se te calientan las piernas (SIN QUEMARTE) y nunca pasarás frío. Estos pantalones, además de ser muy útiles, son estilosos y hay tanto para mujeres, como para h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79640" y="3527280"/>
            <a:ext cx="78483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ugar de fabricació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producto a sido diseñado en España, con una tela especial para no quemarse las piernas, también son elásticos para poder moverse, por lo que son muy cóm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2000" y="4022640"/>
            <a:ext cx="5040360" cy="2239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24720" y="2664000"/>
            <a:ext cx="244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alla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mujer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hombre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ersonas obesas también hay tallas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8400" y="3240000"/>
            <a:ext cx="4341960" cy="388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35640" y="1440000"/>
            <a:ext cx="333396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iendas cercanas para compr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ducto está en todas las tiendas de ropa de Nuevo Centro, Corte Inglés, Aqua, El Sal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bién es posible comprarlos en otros países de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3640" y="3313080"/>
            <a:ext cx="3095640" cy="352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96000" y="3311640"/>
            <a:ext cx="3671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y diferentes tipos de pantal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34080" y="4464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8720" y="144000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527280" y="331164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03280" y="2664000"/>
            <a:ext cx="266364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Como contact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éis llamar al tlf. : 614291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llamar a tiendas, teneís que marcar el número del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3480" y="2909880"/>
            <a:ext cx="3278520" cy="414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52360" y="3384720"/>
            <a:ext cx="2953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511280"/>
            <a:ext cx="8999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s pantalones cuestan 56,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personas obesas, cuestan 62,90, ya que hemos tenido que añadir más tela para fabric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1040" y="2741760"/>
            <a:ext cx="3333600" cy="43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21240" y="2735280"/>
            <a:ext cx="3722760" cy="42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40:01Z</dcterms:created>
  <dc:creator>villena1bc12 villena1bc12</dc:creator>
  <dc:description/>
  <dc:language>en-US</dc:language>
  <cp:lastModifiedBy>villena1bc12 villena1bc12</cp:lastModifiedBy>
  <dcterms:modified xsi:type="dcterms:W3CDTF">2014-06-13T07:04:15Z</dcterms:modified>
  <cp:revision>4</cp:revision>
  <dc:subject/>
  <dc:title/>
</cp:coreProperties>
</file>