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141D-C486-4EC8-BE9E-ED460D105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0DC8-F13A-46DC-B6B3-56CFBB56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2AA1-94BF-4B71-BABC-1EB6A903C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42E9-20C3-4648-A1C8-1C8B58F5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4181-4D1A-4DFB-98C9-41B4F3911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A696-4580-4E16-A63E-F420C2C2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A902-5E98-4C5C-A86D-D1267CAE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D1BD-417C-468B-8047-91C49631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033F-EB9A-4D92-95BC-9F0C4672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3624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1FDC-5A04-4510-B261-5746365D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87F5-CD4B-40DD-A789-6682F73D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4F34-BC9B-4AAD-B0E8-FD172B8B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5775-3C3D-4948-830F-FA64ADE6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CC4D-3A2D-4E3D-B901-A6C1434B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A54C-6867-4E90-9250-B17A7806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1F67-126E-48D5-91CE-511E096A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CEED-C948-4C33-8680-E98EC14FB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EFDF-A01C-4312-B367-C1B335EA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8673-82B1-4388-A5C8-CBF02527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A778-D105-445A-9DDF-471514DD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3624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D41D-8B75-48CF-BC91-70391D8B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7239-1FC6-4B1A-954D-7317D40C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1890-430D-436D-B7B0-48B8E30E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BA28-4688-43FA-98B9-2477489F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F4994-70A8-48D8-B7F7-ED88538E0564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67080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670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670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DE157-F0B9-4310-9CF4-61FC61C9B0C9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Times New Roman"/>
              </a:rPr>
              <a:t>Los pantalones caliente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294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ducto Multilateral Comenius: ¿Qué le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ES Isabel de Vill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fesor: José Andrés Mo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umna: Tania Rayero Ll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rupo: 1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912000" y="1368360"/>
            <a:ext cx="2376360" cy="568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600360" y="4464000"/>
            <a:ext cx="2541600" cy="2592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755640" y="4751280"/>
            <a:ext cx="226872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Times New Roman"/>
              </a:rPr>
              <a:t>En que consiste 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invierno, cuando más frío hace, necesitamos calor cuando salimos a la calle, con estos pantalones, es posible. Al ponertelos sentirás como se te calientan las piernas (SIN QUEMARTE) y nunca pasarás frío. Estos pantalones, además de ser muy útiles, son estilosos y hay tanto para mujeres, como para homb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079640" y="3527280"/>
            <a:ext cx="784836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Times New Roman"/>
              </a:rPr>
              <a:t>Lugar de fabricació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e producto a sido diseñado en España, con una tela especial para no quemarse las piernas, también son elásticos para poder moverse, por lo que son muy cómo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92000" y="4022640"/>
            <a:ext cx="5040360" cy="2239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624720" y="2664000"/>
            <a:ext cx="2448000" cy="43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Times New Roman"/>
              </a:rPr>
              <a:t>Talla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allas de mujer: de la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la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x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allas de hombre: de la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la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x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personas obesas también hay tallas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xx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98400" y="3240000"/>
            <a:ext cx="4341960" cy="388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335640" y="1440000"/>
            <a:ext cx="3333960" cy="533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Times New Roman"/>
              </a:rPr>
              <a:t>Tiendas cercanas para comprar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producto está en todas las tiendas de ropa de Nuevo Centro, Corte Inglés, Aqua, El Sale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ambién es posible comprarlos en otros países de Europ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63640" y="3313080"/>
            <a:ext cx="3095640" cy="3527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896000" y="3311640"/>
            <a:ext cx="367164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Times New Roman"/>
              </a:rPr>
              <a:t>Los pantalone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ay diferentes tipos de pantal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634080" y="446400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408720" y="1440000"/>
            <a:ext cx="2952720" cy="2519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3527280" y="3311640"/>
            <a:ext cx="2519640" cy="2303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503280" y="2664000"/>
            <a:ext cx="2663640" cy="39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Times New Roman"/>
              </a:rPr>
              <a:t>Como contactar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déis llamar al tlf. : 6142911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el caso de llamar a tiendas, teneís que marcar el número del departa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073480" y="2909880"/>
            <a:ext cx="3278520" cy="4146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152360" y="3384720"/>
            <a:ext cx="295308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Times New Roman"/>
              </a:rPr>
              <a:t>Precio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1511280"/>
            <a:ext cx="899964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os pantalones cuestan 56,9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el caso de personas obesas, cuestan 62,90, ya que hemos tenido que añadir más tela para fabrica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51040" y="2741760"/>
            <a:ext cx="3333600" cy="4392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421240" y="2735280"/>
            <a:ext cx="3722760" cy="4218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30T06:40:01Z</dcterms:created>
  <dc:creator>villena1bc12 villena1bc12</dc:creator>
  <dc:description/>
  <dc:language>en-US</dc:language>
  <cp:lastModifiedBy>villena1bc12 villena1bc12</cp:lastModifiedBy>
  <dcterms:modified xsi:type="dcterms:W3CDTF">2014-06-13T07:04:15Z</dcterms:modified>
  <cp:revision>4</cp:revision>
  <dc:subject/>
  <dc:title/>
</cp:coreProperties>
</file>