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303-9378-4E02-BE1F-180B0024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7D2-443B-4E3A-BCC4-1A674476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E8D-25F3-45FE-9C79-E291E8AF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936-E5DF-4FF0-99ED-293BB31D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8364-A212-4BEA-A25E-13D2CB2D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4AA-A7F5-49B8-B5E0-DD59BA5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5617-50C4-43A7-8771-C55D5335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F51B-F4E2-4713-8F38-B5620BA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D8A-EC65-4AED-9EDF-0DED4733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875C-82CF-42E9-A27B-EBFE5318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E2A0-FEC3-4AD1-857C-E4E66F8E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620-D65A-4D09-BE92-B015835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73D9-494B-455C-8C0B-2C28B2C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120-66A7-49C5-A758-C4624CD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C90-7598-4926-8E90-642E273F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A7A5-43FC-4C5F-8662-7A47C264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BAE4-844F-4F57-B21E-AD6BCE41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9D4-5C3F-4B1F-9682-C9D3C59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F27-6D02-4089-A7F3-0B268F41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F66-D4F6-46CC-B9CE-2EE1C145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523-885E-4C24-9DEA-5D77931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3D5-9BC8-4E2F-8BED-191257F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2A7-068E-4A90-9BD1-DDB1B7E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C87-FBBE-45D8-9A6D-033B894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CD16-6514-451C-BAB0-389325F9A96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42C32-5863-4D76-BEA7-23EF5575D0F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 calient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 Multilateral Comenius: ¿Qué l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umna: Tania Rayero Ll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upo: 1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12000" y="1368360"/>
            <a:ext cx="2376360" cy="568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0360" y="4464000"/>
            <a:ext cx="25416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4751280"/>
            <a:ext cx="2268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En que consiste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invierno, cuando más frío hace, necesitamos calor cuando salimos a la calle, con estos pantalones, es posible. Al ponertelos sentirás como se te calientan las piernas (SIN QUEMARTE) y nunca pasarás frío. Estos pantalones, además de ser muy útiles, son estilosos y hay tanto para mujeres, como para h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79640" y="3527280"/>
            <a:ext cx="7848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ugar de fabricació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producto a sido diseñado en España, con una tela especial para no quemarse las piernas, también son elásticos para poder moverse, por lo que son muy cóm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2000" y="4022640"/>
            <a:ext cx="5040360" cy="22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24720" y="2664000"/>
            <a:ext cx="24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alla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mujer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hombre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ersonas obesas también hay tall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3240000"/>
            <a:ext cx="4341960" cy="38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35640" y="1440000"/>
            <a:ext cx="333396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iendas cercanas para compr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 está en todas las tiendas de ropa de Nuevo Centro, Corte Inglés, Aqua, El Sal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 es posible comprarlos en otros países de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3640" y="331308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96000" y="3311640"/>
            <a:ext cx="367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diferentes tipos de pantal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34080" y="4464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8720" y="144000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527280" y="331164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3280" y="2664000"/>
            <a:ext cx="266364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Como contact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éis llamar al tlf. : 61429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llamar a tiendas, teneís que marcar el número del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3480" y="2909880"/>
            <a:ext cx="3278520" cy="414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52360" y="3384720"/>
            <a:ext cx="295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899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pantalones cuestan 56,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personas obesas, cuestan 62,90, ya que hemos tenido que añadir más tela para fabri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1040" y="2741760"/>
            <a:ext cx="3333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21240" y="2735280"/>
            <a:ext cx="372276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40:01Z</dcterms:created>
  <dc:creator>villena1bc12 villena1bc12</dc:creator>
  <dc:description/>
  <dc:language>en-US</dc:language>
  <cp:lastModifiedBy>villena1bc12 villena1bc12</cp:lastModifiedBy>
  <dcterms:modified xsi:type="dcterms:W3CDTF">2014-06-13T07:04:15Z</dcterms:modified>
  <cp:revision>4</cp:revision>
  <dc:subject/>
  <dc:title/>
</cp:coreProperties>
</file>