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3F9-F231-4B5A-859B-C27A3C60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45F-E0C2-4D7C-8126-57CBFCE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829-D932-41B9-889E-0CB0D112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C3F-0E2E-436C-938D-B1EB8DD5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6F5D-B8CA-4C18-80A6-9AE6ACD8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B2F2-3F09-4C63-8524-FB647A7C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A7AB-01E2-4FE3-B258-EA910C49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C860-F09A-4C73-956C-6302AB6C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CBBF-5D16-4CDC-BDFF-659AEBAD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764E-D68E-420E-8F56-D3460DDF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B0BA-6673-447C-9832-BC1A9AE6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6F5-829E-4B23-9DDE-2EE78625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2A64-2D40-452A-8468-6A5314A6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8002-1B88-45E8-98E1-A29E726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30C6-C00E-4ADE-AA79-73817760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157E-0115-4318-81BD-3B1EE79E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7E9A-FB51-4F79-AD6C-97C91029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EEA-CD6F-4C81-9427-3D6EFAB2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3DD-ADD4-4BB5-8C36-0930D8DB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FAD-C17B-44F0-8922-73E6CA34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844-6E73-4145-8F3E-B06A9354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04B-E0B7-410F-80B5-C33261C4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408-5875-4462-912B-4AB8BA5F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CCE-F780-4529-86D2-AE8594F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75C5F-41F9-402D-B1B0-5D729EE8E80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E7537-0EBD-4F8A-8450-0B866443C1B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700" spc="-1" strike="noStrike">
                <a:solidFill>
                  <a:srgbClr val="000080"/>
                </a:solidFill>
                <a:latin typeface="Arial"/>
              </a:rPr>
              <a:t>Tu pared en 3D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280" y="2373480"/>
            <a:ext cx="9072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lateral Comenius: ‘¿Qué lee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o: María Gar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2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0720" y="720720"/>
            <a:ext cx="842328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0" y="4896000"/>
            <a:ext cx="864108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Samanata"/>
              </a:rPr>
              <a:t>La pared 3D es una pantalla en tu pared de casa con la que podrás vivir tus videojuegos preferidos solo o con tu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24000" y="5111640"/>
            <a:ext cx="74883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SCu_Comic"/>
              </a:rPr>
              <a:t>Simplemente instala una de estas paredes donde tu quieras, activala , entra dentro y selecciona tu ju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55640" y="1008000"/>
            <a:ext cx="70660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6360" y="1728720"/>
            <a:ext cx="280836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s elegir el juego que tu quieras. Son juegos especiales que se instalan en la pantalla por  bluetooth. El pack es como un usb con un botón, le das señalando a la pantalla y se instala dentro. Puedes tener varios a la vez guardados y al entrar dentro seleccionar el que qui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27280" y="1224000"/>
            <a:ext cx="5759640" cy="402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72000" y="5472000"/>
            <a:ext cx="547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varios mod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0720" y="1870200"/>
            <a:ext cx="2592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seleccionar el videojuego, modelar tu personaje, las herramientas para jugar y otras cosas, encontraras al entrar una pantalla transparente que aparecerá sola y cuando acabes se irá sola pero se queda en un reloj que llevaras por si quieres cambiar al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56000" y="1646280"/>
            <a:ext cx="574056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8000" y="1008000"/>
            <a:ext cx="849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Elige el vestuario que quieras en cualquier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87640" y="1871640"/>
            <a:ext cx="59752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640" y="993600"/>
            <a:ext cx="9072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152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SCu_Times"/>
              </a:rPr>
              <a:t>Puedes incluso seleccionar un paisaje real y jugar a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79640" y="2087640"/>
            <a:ext cx="73436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20720" y="792000"/>
            <a:ext cx="8783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lvidate de gafas, ni pantallas 3D, ni mandos de videojuegos, ni que se rayen los cd's, con esta pantalla juega en vivo el videoju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1280" y="3384720"/>
            <a:ext cx="4311720" cy="32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39720" y="2087640"/>
            <a:ext cx="3392640" cy="290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7:38:29Z</dcterms:created>
  <dc:creator>villena2bde20 villena2bde20</dc:creator>
  <dc:description/>
  <dc:language>en-US</dc:language>
  <cp:lastModifiedBy>villena2bde20 villena2bde20</cp:lastModifiedBy>
  <dcterms:modified xsi:type="dcterms:W3CDTF">2014-06-12T08:15:18Z</dcterms:modified>
  <cp:revision>3</cp:revision>
  <dc:subject/>
  <dc:title/>
</cp:coreProperties>
</file>