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887-DE85-4FD5-B6D2-5F6365E4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E2A-3CD0-4F94-8C1C-B92C988F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42C-6957-4352-8142-BB58F227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608-C436-41D0-B5C9-D562FBBE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3158-F733-4297-B812-02B5D4E6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90E5-4DA6-4F2F-AFFD-87954E63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AAB1-E674-4521-8F56-E7B7628B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A12F-D54F-4418-BA3C-43C149A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ABC9-FCA3-4419-9B94-8F66D742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F370-D7FC-40F0-80AD-3C64E1BC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CBC1-091D-4911-908F-B643316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73B-8C4E-49CE-899B-60881175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B086-87E1-4B11-A25C-F6EC1AA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E920-C181-45A2-ABFA-2B891AE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A8AE-EBC7-4A5C-91BA-25515D3B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BD95-F956-4B75-B82C-FFE3A9EB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E713-9C8D-45B8-A25C-A1B7FED6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727-DB5A-4335-9A9B-813EF4DE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971-677F-4C42-82AE-A2010CA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E17-19E7-47D3-A5BD-8F9AC85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C1A-2FAD-49CA-840F-3859AB12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A38-ABED-4FEA-A541-34656D1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CE3-2389-4416-A06A-0F47E46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560-C18D-4A3B-A19F-EC6C288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1277C-9D68-4A42-A97B-A3FBD038100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FAA38-3A94-48C1-8738-DE3FADD5E04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700" spc="-1" strike="noStrike">
                <a:solidFill>
                  <a:srgbClr val="000080"/>
                </a:solidFill>
                <a:latin typeface="Arial"/>
              </a:rPr>
              <a:t>Tu pared en 3D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2373480"/>
            <a:ext cx="9072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o: María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2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720720"/>
            <a:ext cx="842328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0" y="4896000"/>
            <a:ext cx="8641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Samanata"/>
              </a:rPr>
              <a:t>La pared 3D es una pantalla en tu pared de casa con la que podrás vivir tus videojuegos preferidos solo o con t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24000" y="5111640"/>
            <a:ext cx="7488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SCu_Comic"/>
              </a:rPr>
              <a:t>Simplemente instala una de estas paredes donde tu quieras, activala , entra dentro y selecciona tu ju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55640" y="1008000"/>
            <a:ext cx="70660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6360" y="1728720"/>
            <a:ext cx="280836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s elegir el juego que tu quieras. Son juegos especiales que se instalan en la pantalla por  bluetooth. El pack es como un usb con un botón, le das señalando a la pantalla y se instala dentro. Puedes tener varios a la vez guardados y al entrar dentro seleccionar el que qui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27280" y="1224000"/>
            <a:ext cx="5759640" cy="402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72000" y="5472000"/>
            <a:ext cx="547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os mod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187020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seleccionar el videojuego, modelar tu personaje, las herramientas para jugar y otras cosas, encontraras al entrar una pantalla transparente que aparecerá sola y cuando acabes se irá sola pero se queda en un reloj que llevaras por si quieres cambiar al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6000" y="1646280"/>
            <a:ext cx="57405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8000" y="1008000"/>
            <a:ext cx="849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Elige el vestuario que quieras en cualquier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87640" y="1871640"/>
            <a:ext cx="59752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993600"/>
            <a:ext cx="9072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Puedes incluso seleccionar un paisaje real y jugar a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9640" y="2087640"/>
            <a:ext cx="73436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0720" y="792000"/>
            <a:ext cx="878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lvidate de gafas, ni pantallas 3D, ni mandos de videojuegos, ni que se rayen los cd's, con esta pantalla juega en vivo el video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1280" y="3384720"/>
            <a:ext cx="4311720" cy="32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9720" y="2087640"/>
            <a:ext cx="3392640" cy="29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38:29Z</dcterms:created>
  <dc:creator>villena2bde20 villena2bde20</dc:creator>
  <dc:description/>
  <dc:language>en-US</dc:language>
  <cp:lastModifiedBy>villena2bde20 villena2bde20</cp:lastModifiedBy>
  <dcterms:modified xsi:type="dcterms:W3CDTF">2014-06-12T08:15:18Z</dcterms:modified>
  <cp:revision>3</cp:revision>
  <dc:subject/>
  <dc:title/>
</cp:coreProperties>
</file>