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6C2-664F-4902-BB74-AF0C3EE5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CB9C-345B-4CEB-AD5C-00CBA9CE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808-C587-4168-9E26-BFAE9D9F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62C4-A013-4978-8D1D-DC3F4A71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3753-73F0-4636-8321-D8821B0B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2143-68D4-4712-8CAB-906522D1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BD48-0DBD-45E1-9C85-8130B719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D14F-0910-4BFB-A8F2-0E58A563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2573-1CA0-4E5C-8FA2-FEEC7F14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C0C0-2DE3-4FA5-848A-6B1E7571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F85C-A86A-4807-98AC-6D165677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CEF-8846-4A42-A555-AE7C7F01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376C-B976-4C06-8CF0-03223664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4962-BAD8-48CC-B511-8747A797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A6CC-A752-43B7-AA6E-159010E9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1C87-243A-4AF6-BC38-A1087E36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F0F4-1710-43B3-ABA3-DE7FE06D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7A4-1256-4095-B047-577BD3D8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251-2D67-4626-9A6F-2F4ABB13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9B9-CD7A-4BD0-AFE3-76BB089C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40C-31CD-4261-A00E-8713EC24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9EC-322B-4932-B979-C4BD5948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65C-63E8-4AC2-99DD-C4D51025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8A0-0CF1-42D7-9926-97A583D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E4CEB-9B6C-4F5D-9728-00D38007854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7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E44C0-CD78-438A-91B0-847FE90DE3B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700" spc="-1" strike="noStrike">
                <a:solidFill>
                  <a:srgbClr val="000080"/>
                </a:solidFill>
                <a:latin typeface="Arial"/>
              </a:rPr>
              <a:t>Tu pared en 3D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3280" y="2373480"/>
            <a:ext cx="9072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umno: María Garc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upo:2º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0720" y="720720"/>
            <a:ext cx="842328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0" y="4896000"/>
            <a:ext cx="864108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Samanata"/>
              </a:rPr>
              <a:t>La pared 3D es una pantalla en tu pared de casa con la que podrás vivir tus videojuegos preferidos solo o con tus amig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24000" y="5111640"/>
            <a:ext cx="74883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SCu_Comic"/>
              </a:rPr>
              <a:t>Simplemente instala una de estas paredes donde tu quieras, activala , entra dentro y selecciona tu jue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55640" y="1008000"/>
            <a:ext cx="70660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6360" y="1728720"/>
            <a:ext cx="280836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s elegir el juego que tu quieras. Son juegos especiales que se instalan en la pantalla por  bluetooth. El pack es como un usb con un botón, le das señalando a la pantalla y se instala dentro. Puedes tener varios a la vez guardados y al entrar dentro seleccionar el que qui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27280" y="1224000"/>
            <a:ext cx="5759640" cy="4021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72000" y="5472000"/>
            <a:ext cx="5472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varios mode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20720" y="1870200"/>
            <a:ext cx="25923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seleccionar el videojuego, modelar tu personaje, las herramientas para jugar y otras cosas, encontraras al entrar una pantalla transparente que aparecerá sola y cuando acabes se irá sola pero se queda en un reloj que llevaras por si quieres cambiar al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56000" y="1646280"/>
            <a:ext cx="5740560" cy="40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8000" y="1008000"/>
            <a:ext cx="849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152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SCu_Times"/>
              </a:rPr>
              <a:t>Elige el vestuario que quieras en cualquier j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87640" y="1871640"/>
            <a:ext cx="597528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47640" y="993600"/>
            <a:ext cx="9072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152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SCu_Times"/>
              </a:rPr>
              <a:t>Puedes incluso seleccionar un paisaje real y jugar a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79640" y="2087640"/>
            <a:ext cx="73436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20720" y="792000"/>
            <a:ext cx="87836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lvidate de gafas, ni pantallas 3D, ni mandos de videojuegos, ni que se rayen los cd's, con esta pantalla juega en vivo el videoju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51280" y="3384720"/>
            <a:ext cx="4311720" cy="3287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39720" y="2087640"/>
            <a:ext cx="3392640" cy="290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5T07:38:29Z</dcterms:created>
  <dc:creator>villena2bde20 villena2bde20</dc:creator>
  <dc:description/>
  <dc:language>en-US</dc:language>
  <cp:lastModifiedBy>villena2bde20 villena2bde20</cp:lastModifiedBy>
  <dcterms:modified xsi:type="dcterms:W3CDTF">2014-06-12T08:15:18Z</dcterms:modified>
  <cp:revision>3</cp:revision>
  <dc:subject/>
  <dc:title/>
</cp:coreProperties>
</file>