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9EE2-AEA9-452D-9AEB-AFFF58DE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9FE-0C92-4C2B-B9FD-5AA137F7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CCC-CA5C-4F8B-AD80-63E36996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C2B9-60A3-44DA-9F73-5B717BF6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C1E0-63A8-4DC9-8349-6965CE46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BA53-C192-4C27-BAC4-C560668B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57C3-DF9D-4E36-8BB1-05CBF13A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0ADA-ED02-4DCE-90EA-58418613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9966-C7EF-4C3D-8566-5F70B9AD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01F7-C92D-471A-AF15-CB7D0ECD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0570-9AC1-442F-A01B-C635AE8E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023-0AB1-4272-A47E-511A70FC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11BA-A9DD-42CA-8BD1-BF2B4AD2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4855-960A-4A83-BD66-682EB914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5D30-4A53-44D0-A58E-AFCEEF15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1ED4-7B0A-4897-B0C8-33B76C30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632D-E2E0-44BC-9542-7107A537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BC5-BB64-491D-968F-1ED96AB0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020-838E-44BB-A405-269FF07A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9C7-09B2-4494-BD33-ABACA2D5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7CC-D557-4E42-A795-FAA4B649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790-EC39-47EA-99D0-01836032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58D-4C65-474D-BCF3-94920E25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868-4FFA-4D88-8F04-6F7C2D96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63D83-5721-44F6-9395-E17863A9FA9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7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29CF9-B5E0-494A-9E5C-BA08FCCE15F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700" spc="-1" strike="noStrike">
                <a:solidFill>
                  <a:srgbClr val="000080"/>
                </a:solidFill>
                <a:latin typeface="Arial"/>
              </a:rPr>
              <a:t>Tu pared en 3D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3280" y="2373480"/>
            <a:ext cx="9072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umno: María Garc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upo:2º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0720" y="720720"/>
            <a:ext cx="842328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0" y="4896000"/>
            <a:ext cx="864108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Samanata"/>
              </a:rPr>
              <a:t>La pared 3D es una pantalla en tu pared de casa con la que podrás vivir tus videojuegos preferidos solo o con tus amig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24000" y="5111640"/>
            <a:ext cx="74883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SCu_Comic"/>
              </a:rPr>
              <a:t>Simplemente instala una de estas paredes donde tu quieras, activala , entra dentro y selecciona tu jue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55640" y="1008000"/>
            <a:ext cx="70660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6360" y="1728720"/>
            <a:ext cx="280836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s elegir el juego que tu quieras. Son juegos especiales que se instalan en la pantalla por  bluetooth. El pack es como un usb con un botón, le das señalando a la pantalla y se instala dentro. Puedes tener varios a la vez guardados y al entrar dentro seleccionar el que qui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27280" y="1224000"/>
            <a:ext cx="5759640" cy="4021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72000" y="5472000"/>
            <a:ext cx="5472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varios mode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20720" y="1870200"/>
            <a:ext cx="25923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seleccionar el videojuego, modelar tu personaje, las herramientas para jugar y otras cosas, encontraras al entrar una pantalla transparente que aparecerá sola y cuando acabes se irá sola pero se queda en un reloj que llevaras por si quieres cambiar al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56000" y="1646280"/>
            <a:ext cx="5740560" cy="40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8000" y="1008000"/>
            <a:ext cx="849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152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SCu_Times"/>
              </a:rPr>
              <a:t>Elige el vestuario que quieras en cualquier j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87640" y="1871640"/>
            <a:ext cx="597528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47640" y="993600"/>
            <a:ext cx="9072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152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SCu_Times"/>
              </a:rPr>
              <a:t>Puedes incluso seleccionar un paisaje real y jugar a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79640" y="2087640"/>
            <a:ext cx="73436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20720" y="792000"/>
            <a:ext cx="87836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lvidate de gafas, ni pantallas 3D, ni mandos de videojuegos, ni que se rayen los cd's, con esta pantalla juega en vivo el videoju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51280" y="3384720"/>
            <a:ext cx="4311720" cy="3287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39720" y="2087640"/>
            <a:ext cx="3392640" cy="290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5T07:38:29Z</dcterms:created>
  <dc:creator>villena2bde20 villena2bde20</dc:creator>
  <dc:description/>
  <dc:language>en-US</dc:language>
  <cp:lastModifiedBy>villena2bde20 villena2bde20</cp:lastModifiedBy>
  <dcterms:modified xsi:type="dcterms:W3CDTF">2014-06-12T08:15:18Z</dcterms:modified>
  <cp:revision>3</cp:revision>
  <dc:subject/>
  <dc:title/>
</cp:coreProperties>
</file>