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3C1-3988-4EBE-A404-C83E2C42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10E-8120-4C74-BEC5-51DCCAB7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228-24A9-4451-9C72-E6F1AFBB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C11-F807-49FF-A375-D86BC580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75E-A6E7-4700-8B31-9069289E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752-7A0E-47F0-A83B-A345BC1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5EF-65C0-4900-89BF-B1B6C1D9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7C8-5670-44DD-82B1-BE8DF8B6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35B-18E0-45E1-AC65-B648C6CC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649-5C98-496C-BCCC-4F57859D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D09-5FB2-45B8-869A-59E80550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027-C2F9-4358-BE5C-5E8C664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92B14-532A-4453-B802-7D9A494F147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Mi libro favorito: Perdona si te llamo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yecto Multilateral Comenius: ‘Que lees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fesor: Jose Andres M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Alumno: Chantal Marti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Grupo: 4</a:t>
            </a:r>
            <a:r>
              <a:rPr b="0" lang="es-ES" sz="3600" spc="-1" strike="noStrike" baseline="33000">
                <a:solidFill>
                  <a:srgbClr val="000000"/>
                </a:solidFill>
                <a:latin typeface="TSCu_Comic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D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dona si te llam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Autor: Federico Mo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Editorial: Plan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Paginas: 6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Fecha publicacion: 29 enero del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ff3366"/>
                </a:solidFill>
                <a:latin typeface="TSCu_Comic"/>
              </a:rPr>
              <a:t>Personajes princip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Alessandro: 3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un exitoso creativo de public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: 1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estudia su ultimo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 de instituto y se esta preparando para la univers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0000" y="4967280"/>
            <a:ext cx="4608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sonajes secund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Olly, Ericca y Diletta 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Amiga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Roberto y Simona: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Padre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Fabio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o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lena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a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nrico Flavio y Pie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Amigos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35640" y="4248000"/>
            <a:ext cx="36720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 se esta preparando para ir a la universidad, acaba de dejar una relacion y Alessandro trabaja como publicis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75400" y="1768320"/>
            <a:ext cx="30747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Nikki tiene un accidente con la moto y conoce a Alessandro, con quien empieza una relacion  al poco tiempo. Nikki empieza a entrar en la vida y el corazon de Alessandro y su relacion empieza a ser objeto de critica entre los amigos y familiares de ambos por la diferencia tan grande de 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Opin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040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Me gusto el libro porque las historias asi son muy interesantes y era muy facil de leer y entender. Personalmente creo que una relacion asi no funcionaria porque ambas partes buscan cosas distintas en una pare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94480" y="1768320"/>
            <a:ext cx="30366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8:34Z</dcterms:created>
  <dc:creator>villena4uno06 villena4uno06</dc:creator>
  <dc:description/>
  <dc:language>en-US</dc:language>
  <cp:lastModifiedBy>villena4uno06 villena4uno06</cp:lastModifiedBy>
  <dcterms:modified xsi:type="dcterms:W3CDTF">2013-12-04T08:51:43Z</dcterms:modified>
  <cp:revision>4</cp:revision>
  <dc:subject/>
  <dc:title/>
</cp:coreProperties>
</file>