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B19-4D42-43CD-9915-38986168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42E-D549-453C-B3AE-BFBF32A8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D10-A241-48F9-B1BF-3CE7BEBC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73B-9CAE-4073-ABB7-1D1903BF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46B-EF42-44A0-B9B8-9115730A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A91-6DA3-409B-8AB5-D5713D6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C3F-477C-4504-B4D9-13B98865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84F-813A-4636-BBC6-BFF2B197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E37-98DD-4ACE-B61A-B1C86482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110-1C44-4535-8161-5DA8970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BDD-1BE6-4D5E-8ECB-ECE2442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929-47D6-4CD1-BEC9-9D0FEC6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ABFFC-CB6D-4F0E-9A4D-7E97F775399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Mi libro favorito: Perdona si te llamo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yecto Multilateral Comenius: ‘Que lees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Profesor: Jose Andres M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Alumno: Chantal Marti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Grupo: 4</a:t>
            </a:r>
            <a:r>
              <a:rPr b="0" lang="es-ES" sz="3600" spc="-1" strike="noStrike" baseline="33000">
                <a:solidFill>
                  <a:srgbClr val="000000"/>
                </a:solidFill>
                <a:latin typeface="TSCu_Comic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 D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dona si te llamo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Autor: Federico Moc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Editorial: Plane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Paginas: 6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SCu_Comic"/>
              </a:rPr>
              <a:t>Fecha publicacion: 29 enero del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ff3366"/>
                </a:solidFill>
                <a:latin typeface="TSCu_Comic"/>
              </a:rPr>
              <a:t>Personajes principa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Alessandro: 3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un exitoso creativo de public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: 17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s, estudia su ultimo a</a:t>
            </a: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ñ</a:t>
            </a: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o de instituto y se esta preparando para la univers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0000" y="4967280"/>
            <a:ext cx="460836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Personajes secund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Olly, Ericca y Diletta 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Amiga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Roberto y Simona: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Padres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Fabio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o de Ni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lena: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Ex novia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SCu_Comic"/>
              </a:rPr>
              <a:t>Enrico Flavio y Pie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Amigos de Alessa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35640" y="4248000"/>
            <a:ext cx="3672000" cy="32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SCu_Comic"/>
              </a:rPr>
              <a:t>Nikki se esta preparando para ir a la universidad, acaba de dejar una relacion y Alessandro trabaja como publicis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75400" y="1768320"/>
            <a:ext cx="30747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SCu_Comic"/>
              </a:rPr>
              <a:t>Nikki tiene un accidente con la moto y conoce a Alessandro, con quien empieza una relacion  al poco tiempo. Nikki empieza a entrar en la vida y el corazon de Alessandro y su relacion empieza a ser objeto de critica entre los amigos y familiares de ambos por la diferencia tan grande de 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TSCu_Comic"/>
              </a:rPr>
              <a:t>Opinio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040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3000"/>
          </a:bodyPr>
          <a:p>
            <a:pPr marL="40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SCu_Comic"/>
              </a:rPr>
              <a:t>Me gusto el libro porque las historias asi son muy interesantes y era muy facil de leer y entender. Personalmente creo que una relacion asi no funcionaria porque ambas partes buscan cosas distintas en una parej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694480" y="1768320"/>
            <a:ext cx="303660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8:34Z</dcterms:created>
  <dc:creator>villena4uno06 villena4uno06</dc:creator>
  <dc:description/>
  <dc:language>en-US</dc:language>
  <cp:lastModifiedBy>villena4uno06 villena4uno06</cp:lastModifiedBy>
  <dcterms:modified xsi:type="dcterms:W3CDTF">2013-12-04T08:51:43Z</dcterms:modified>
  <cp:revision>4</cp:revision>
  <dc:subject/>
  <dc:title/>
</cp:coreProperties>
</file>