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10A-661D-432E-ACCB-7861D1E1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64D-4773-42E1-BEF7-5E89D62C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C72-8BA0-46E6-ACEA-CF51E698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245-D2C0-4CE3-A184-29486826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6CD-3F4D-4803-A3A3-30440508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F4B-27FC-43E3-87DD-041CFE7C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201-6282-4897-B6A5-64145BE1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C60-0752-4E57-9E95-443B78F4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EAC-D302-4C47-8D87-D393877B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F90-EFF1-4CAE-95A2-3C4FFE25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EDB-6094-4848-8EA3-48D6F8DD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D38-7650-4C42-8C48-F6AC65FF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7B6F1-3292-4F6C-8B46-21AACAE6F0C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Mi libro favorito: Perdona si te llamo a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Proyecto Multilateral Comenius: ‘Que lees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IES Isabel de Vill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Profesor: Jose Andres Mo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Alumno: Chantal Martin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Grupo: 4</a:t>
            </a:r>
            <a:r>
              <a:rPr b="0" lang="es-ES" sz="3600" spc="-1" strike="noStrike" baseline="33000">
                <a:solidFill>
                  <a:srgbClr val="000000"/>
                </a:solidFill>
                <a:latin typeface="TSCu_Comic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D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Perdona si te llamo am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Autor: Federico Moc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Editorial: Plane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Paginas: 6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Fecha publicacion: 29 enero del 20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ff3366"/>
                </a:solidFill>
                <a:latin typeface="TSCu_Comic"/>
              </a:rPr>
              <a:t>Personajes principa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Alessandro: 37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s, un exitoso creativo de public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Nikki: 17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s, estudia su ultimo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 de instituto y se esta preparando para la univers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0000" y="4967280"/>
            <a:ext cx="460836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Personajes secund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Olly, Ericca y Diletta 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Amigas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Roberto y Simona: 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Padres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Fabio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Ex novio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Elena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Ex novia de Alessan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Enrico Flavio y Pietr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Amigos de Alessan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35640" y="4248000"/>
            <a:ext cx="3672000" cy="32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Argum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82000"/>
          </a:bodyPr>
          <a:p>
            <a:pPr marL="3538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Nikki se esta preparando para ir a la universidad, acaba de dejar una relacion y Alessandro trabaja como publicis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675400" y="1768320"/>
            <a:ext cx="307476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Argu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3000"/>
          </a:bodyPr>
          <a:p>
            <a:pPr marL="40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Nikki tiene un accidente con la moto y conoce a Alessandro, con quien empieza una relacion  al poco tiempo. Nikki empieza a entrar en la vida y el corazon de Alessandro y su relacion empieza a ser objeto de critica entre los amigos y familiares de ambos por la diferencia tan grande de e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Opinion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50403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3000"/>
          </a:bodyPr>
          <a:p>
            <a:pPr marL="40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Me gusto el libro porque las historias asi son muy interesantes y era muy facil de leer y entender. Personalmente creo que una relacion asi no funcionaria porque ambas partes buscan cosas distintas en una parej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694480" y="1768320"/>
            <a:ext cx="303660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8:38:34Z</dcterms:created>
  <dc:creator>villena4uno06 villena4uno06</dc:creator>
  <dc:description/>
  <dc:language>en-US</dc:language>
  <cp:lastModifiedBy>villena4uno06 villena4uno06</cp:lastModifiedBy>
  <dcterms:modified xsi:type="dcterms:W3CDTF">2013-12-04T08:51:43Z</dcterms:modified>
  <cp:revision>4</cp:revision>
  <dc:subject/>
  <dc:title/>
</cp:coreProperties>
</file>