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34A2-5D6C-4ED5-9D63-D1300653C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FAFE-16E2-438E-A19B-1F45C713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52C4-BBA0-4A9E-84D1-6A708EF68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03E1-3D46-4447-B7E0-65CB2CBFB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51FD-EE9A-4F5F-ABED-0EC57CF3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5D6A-348F-4AE3-BCDD-1FD974A2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C3DE-CFD5-4817-8960-44F3497B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3444-9A50-4D0E-BB75-3E3FCEB1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DC60-6399-496B-B9EA-AA4F9F6C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B843-3925-4FDB-8BCD-00584E5F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7855-3D15-4157-921D-49AC8C33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F436-B4BE-4FCE-816B-A91791CE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2D63C-F4E6-4C4D-9F37-9AC95D3EB70B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3366"/>
                </a:solidFill>
                <a:latin typeface="TSCu_Comic"/>
              </a:rPr>
              <a:t>Mi libro favorito: Perdona si te llamo am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Proyecto Multilateral Comenius: ‘Que lees?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IES Isabel de Vill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Profesor: Jose Andres Mol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Alumno: Chantal Martin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Grupo: 4</a:t>
            </a:r>
            <a:r>
              <a:rPr b="0" lang="es-ES" sz="3600" spc="-1" strike="noStrike" baseline="33000">
                <a:solidFill>
                  <a:srgbClr val="000000"/>
                </a:solidFill>
                <a:latin typeface="TSCu_Comic"/>
              </a:rPr>
              <a:t>o</a:t>
            </a: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 D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000" spc="-1" strike="noStrike">
                <a:solidFill>
                  <a:srgbClr val="ff3366"/>
                </a:solidFill>
                <a:latin typeface="TSCu_Comic"/>
              </a:rPr>
              <a:t>Perdona si te llamo am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SCu_Comic"/>
              </a:rPr>
              <a:t>Autor: Federico Mocc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SCu_Comic"/>
              </a:rPr>
              <a:t>Editorial: Plane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SCu_Comic"/>
              </a:rPr>
              <a:t>Paginas: 68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SCu_Comic"/>
              </a:rPr>
              <a:t>Fecha publicacion: 29 enero del 200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600" spc="-1" strike="noStrike">
                <a:solidFill>
                  <a:srgbClr val="ff3366"/>
                </a:solidFill>
                <a:latin typeface="TSCu_Comic"/>
              </a:rPr>
              <a:t>Personajes principal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SCu_Comic"/>
              </a:rPr>
              <a:t>Alessandro: 37 a</a:t>
            </a: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ñ</a:t>
            </a:r>
            <a:r>
              <a:rPr b="0" lang="es-ES" sz="4400" spc="-1" strike="noStrike">
                <a:solidFill>
                  <a:srgbClr val="000000"/>
                </a:solidFill>
                <a:latin typeface="TSCu_Comic"/>
              </a:rPr>
              <a:t>os, un exitoso creativo de publicida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SCu_Comic"/>
              </a:rPr>
              <a:t>Nikki: 17 a</a:t>
            </a: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ñ</a:t>
            </a:r>
            <a:r>
              <a:rPr b="0" lang="es-ES" sz="4400" spc="-1" strike="noStrike">
                <a:solidFill>
                  <a:srgbClr val="000000"/>
                </a:solidFill>
                <a:latin typeface="TSCu_Comic"/>
              </a:rPr>
              <a:t>os, estudia su ultimo a</a:t>
            </a: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ñ</a:t>
            </a:r>
            <a:r>
              <a:rPr b="0" lang="es-ES" sz="4400" spc="-1" strike="noStrike">
                <a:solidFill>
                  <a:srgbClr val="000000"/>
                </a:solidFill>
                <a:latin typeface="TSCu_Comic"/>
              </a:rPr>
              <a:t>o de instituto y se esta preparando para la universida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0000" y="4967280"/>
            <a:ext cx="4608360" cy="22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000" spc="-1" strike="noStrike">
                <a:solidFill>
                  <a:srgbClr val="ff3366"/>
                </a:solidFill>
                <a:latin typeface="TSCu_Comic"/>
              </a:rPr>
              <a:t>Personajes secund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 fontScale="91000"/>
          </a:bodyPr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SCu_Comic"/>
              </a:rPr>
              <a:t>Olly, Ericca y Diletta :</a:t>
            </a:r>
            <a:r>
              <a:rPr b="0" lang="es-ES" sz="4000" spc="-1" strike="noStrike">
                <a:solidFill>
                  <a:srgbClr val="000000"/>
                </a:solidFill>
                <a:latin typeface="TSCu_Comic"/>
              </a:rPr>
              <a:t> Amigas de Nikk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SCu_Comic"/>
              </a:rPr>
              <a:t>Roberto y Simona: </a:t>
            </a:r>
            <a:r>
              <a:rPr b="0" lang="es-ES" sz="4000" spc="-1" strike="noStrike">
                <a:solidFill>
                  <a:srgbClr val="000000"/>
                </a:solidFill>
                <a:latin typeface="TSCu_Comic"/>
              </a:rPr>
              <a:t>Padres de Nikk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SCu_Comic"/>
              </a:rPr>
              <a:t>Fabio:</a:t>
            </a:r>
            <a:r>
              <a:rPr b="0" lang="es-ES" sz="4000" spc="-1" strike="noStrike">
                <a:solidFill>
                  <a:srgbClr val="000000"/>
                </a:solidFill>
                <a:latin typeface="TSCu_Comic"/>
              </a:rPr>
              <a:t> Ex novio de Nikk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SCu_Comic"/>
              </a:rPr>
              <a:t>Elena:</a:t>
            </a:r>
            <a:r>
              <a:rPr b="0" lang="es-ES" sz="4000" spc="-1" strike="noStrike">
                <a:solidFill>
                  <a:srgbClr val="000000"/>
                </a:solidFill>
                <a:latin typeface="TSCu_Comic"/>
              </a:rPr>
              <a:t> Ex novia de Alessand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SCu_Comic"/>
              </a:rPr>
              <a:t>Enrico Flavio y Pietr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2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SCu_Comic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TSCu_Comic"/>
              </a:rPr>
              <a:t>Amigos de Alessand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335640" y="4248000"/>
            <a:ext cx="3672000" cy="322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000" spc="-1" strike="noStrike">
                <a:solidFill>
                  <a:srgbClr val="ff3366"/>
                </a:solidFill>
                <a:latin typeface="TSCu_Comic"/>
              </a:rPr>
              <a:t>Argumen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 fontScale="82000"/>
          </a:bodyPr>
          <a:p>
            <a:pPr marL="3538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SCu_Comic"/>
              </a:rPr>
              <a:t>Nikki se esta preparando para ir a la universidad, acaba de dejar una relacion y Alessandro trabaja como publicis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675400" y="1768320"/>
            <a:ext cx="3074760" cy="438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3366"/>
                </a:solidFill>
                <a:latin typeface="TSCu_Comic"/>
              </a:rPr>
              <a:t>Argu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 fontScale="93000"/>
          </a:bodyPr>
          <a:p>
            <a:pPr marL="4014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SCu_Comic"/>
              </a:rPr>
              <a:t>Nikki tiene un accidente con la moto y conoce a Alessandro, con quien empieza una relacion  al poco tiempo. Nikki empieza a entrar en la vida y el corazon de Alessandro y su relacion empieza a ser objeto de critica entre los amigos y familiares de ambos por la diferencia tan grande de ed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3366"/>
                </a:solidFill>
                <a:latin typeface="TSCu_Comic"/>
              </a:rPr>
              <a:t>Opinion pers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50403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 fontScale="93000"/>
          </a:bodyPr>
          <a:p>
            <a:pPr marL="4014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Me gusto el libro porque las historias asi son muy interesantes y era muy facil de leer y entender. Personalmente creo que una relacion asi no funcionaria porque ambas partes buscan cosas distintas en una parej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694480" y="1768320"/>
            <a:ext cx="3036600" cy="438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9T08:38:34Z</dcterms:created>
  <dc:creator>villena4uno06 villena4uno06</dc:creator>
  <dc:description/>
  <dc:language>en-US</dc:language>
  <cp:lastModifiedBy>villena4uno06 villena4uno06</cp:lastModifiedBy>
  <dcterms:modified xsi:type="dcterms:W3CDTF">2013-12-04T08:51:43Z</dcterms:modified>
  <cp:revision>4</cp:revision>
  <dc:subject/>
  <dc:title/>
</cp:coreProperties>
</file>