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98CB9-453D-4803-A330-EA988B8A9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99AC0-00FA-40F5-A0AC-5B4E55B5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C1F05-14E5-48E1-B0B3-FBC8767D1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34446-415F-4C88-857A-35508FCE6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9524-A61D-482F-A478-7CD7B0A0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96E28-0BDF-4506-8A65-2224D0D9D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D39D-4896-4900-8B77-47EAF6206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3E23-BE94-4B40-BBC2-22D1E84AE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DE98-216C-47DA-A56F-644B052E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7DD4-BDC3-416F-A4E9-3AEB1CB9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A59D-DE42-47E5-BB66-B58749E2F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EBCF-67EA-4709-A929-3857DC66C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BFF4C-307D-4F05-8F78-FFD402D3C73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sent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514520"/>
            <a:ext cx="8869320" cy="306072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Robot Sustituto </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Proyecto Multilateral Comenius: ‘¿Qué lees?’</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IES Isabel de Ville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Profesor: Jose Andres Moli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Juan Víctor Molner</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3ºA</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Memoria</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86000"/>
          </a:bodyPr>
          <a:p>
            <a:pPr marL="371160" indent="-2782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Tiene un disco duro capaz de organizar la misma cantidad de información que una persona normal y tiene capacidad de recordar cosas sucedidas varios meses antes. También se le puede pasar información proveniente de otros discos duros.</a:t>
            </a:r>
            <a:endParaRPr b="0" lang="en-US" sz="3200" spc="-1" strike="noStrike">
              <a:solidFill>
                <a:srgbClr val="000000"/>
              </a:solidFill>
              <a:latin typeface="Arial"/>
            </a:endParaRPr>
          </a:p>
        </p:txBody>
      </p:sp>
      <p:pic>
        <p:nvPicPr>
          <p:cNvPr id="69" name="" descr=""/>
          <p:cNvPicPr/>
          <p:nvPr/>
        </p:nvPicPr>
        <p:blipFill>
          <a:blip r:embed="rId1"/>
          <a:stretch/>
        </p:blipFill>
        <p:spPr>
          <a:xfrm>
            <a:off x="5184720" y="2016000"/>
            <a:ext cx="4680000" cy="36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enguaje y programació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uando lo compras tienes que programarlo con un idioma conestandolo a un ordenador por USB y enseñarle cosas para que pueda trabajar una vez esté programado</a:t>
            </a:r>
            <a:endParaRPr b="0" lang="en-US" sz="3200" spc="-1" strike="noStrike">
              <a:solidFill>
                <a:srgbClr val="000000"/>
              </a:solidFill>
              <a:latin typeface="Arial"/>
            </a:endParaRPr>
          </a:p>
        </p:txBody>
      </p:sp>
      <p:pic>
        <p:nvPicPr>
          <p:cNvPr id="45" name="" descr=""/>
          <p:cNvPicPr/>
          <p:nvPr/>
        </p:nvPicPr>
        <p:blipFill>
          <a:blip r:embed="rId1"/>
          <a:stretch/>
        </p:blipFill>
        <p:spPr>
          <a:xfrm>
            <a:off x="4832280" y="1655640"/>
            <a:ext cx="495936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realiza las cosas que a ti no te apetece hacer porque estas vago y te da pateo como pasear al perro, limpiar la habitación...</a:t>
            </a:r>
            <a:endParaRPr b="0" lang="en-US" sz="3200" spc="-1" strike="noStrike">
              <a:solidFill>
                <a:srgbClr val="000000"/>
              </a:solidFill>
              <a:latin typeface="Arial"/>
            </a:endParaRPr>
          </a:p>
        </p:txBody>
      </p:sp>
      <p:pic>
        <p:nvPicPr>
          <p:cNvPr id="48" name="" descr=""/>
          <p:cNvPicPr/>
          <p:nvPr/>
        </p:nvPicPr>
        <p:blipFill>
          <a:blip r:embed="rId1"/>
          <a:stretch/>
        </p:blipFill>
        <p:spPr>
          <a:xfrm>
            <a:off x="6126120" y="1768320"/>
            <a:ext cx="2174760" cy="438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mbio de apariencia</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es como terminator coge forma humana pero en este caso coge la forma del dueño con un análisis y acoge las facciones al mínimo detalle. </a:t>
            </a:r>
            <a:endParaRPr b="0" lang="en-US" sz="3200" spc="-1" strike="noStrike">
              <a:solidFill>
                <a:srgbClr val="000000"/>
              </a:solidFill>
              <a:latin typeface="Arial"/>
            </a:endParaRPr>
          </a:p>
        </p:txBody>
      </p:sp>
      <p:pic>
        <p:nvPicPr>
          <p:cNvPr id="51" name="" descr=""/>
          <p:cNvPicPr/>
          <p:nvPr/>
        </p:nvPicPr>
        <p:blipFill>
          <a:blip r:embed="rId1"/>
          <a:stretch/>
        </p:blipFill>
        <p:spPr>
          <a:xfrm>
            <a:off x="5048280" y="2441520"/>
            <a:ext cx="4327560" cy="3038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racteristica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se va pareciendo a ti en la apariencia y en la actitud para que tu no tengas que hacer esas cosas que no te apetecen y el resto de gente se piense que lo que hace el robot lo estas haciendo tu.</a:t>
            </a:r>
            <a:endParaRPr b="0" lang="en-US" sz="3200" spc="-1" strike="noStrike">
              <a:solidFill>
                <a:srgbClr val="000000"/>
              </a:solidFill>
              <a:latin typeface="Arial"/>
            </a:endParaRPr>
          </a:p>
        </p:txBody>
      </p:sp>
      <p:pic>
        <p:nvPicPr>
          <p:cNvPr id="54" name="" descr=""/>
          <p:cNvPicPr/>
          <p:nvPr/>
        </p:nvPicPr>
        <p:blipFill>
          <a:blip r:embed="rId1"/>
          <a:stretch/>
        </p:blipFill>
        <p:spPr>
          <a:xfrm>
            <a:off x="5048280" y="2517840"/>
            <a:ext cx="4327560" cy="288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Bateria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viene con un cable de batería similar a un telefono mobil, te avisará el mismo cuando tenga menos del 8 % de batería.</a:t>
            </a:r>
            <a:endParaRPr b="0" lang="en-US" sz="3200" spc="-1" strike="noStrike">
              <a:solidFill>
                <a:srgbClr val="000000"/>
              </a:solidFill>
              <a:latin typeface="Arial"/>
            </a:endParaRPr>
          </a:p>
        </p:txBody>
      </p:sp>
      <p:pic>
        <p:nvPicPr>
          <p:cNvPr id="57" name="" descr=""/>
          <p:cNvPicPr/>
          <p:nvPr/>
        </p:nvPicPr>
        <p:blipFill>
          <a:blip r:embed="rId1"/>
          <a:stretch/>
        </p:blipFill>
        <p:spPr>
          <a:xfrm>
            <a:off x="5048280" y="1797120"/>
            <a:ext cx="4327560" cy="432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oblemas con el robot</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no ha sido probado durante mucho tiempo asi que cuando sea muy inteligente se te puede revelar, pero no te preocupes te vas al menu que tiene en el abdomen y aprietas el botón de apagado.</a:t>
            </a:r>
            <a:endParaRPr b="0" lang="en-US" sz="3200" spc="-1" strike="noStrike">
              <a:solidFill>
                <a:srgbClr val="000000"/>
              </a:solidFill>
              <a:latin typeface="Arial"/>
            </a:endParaRPr>
          </a:p>
        </p:txBody>
      </p:sp>
      <p:pic>
        <p:nvPicPr>
          <p:cNvPr id="60" name="" descr=""/>
          <p:cNvPicPr/>
          <p:nvPr/>
        </p:nvPicPr>
        <p:blipFill>
          <a:blip r:embed="rId1"/>
          <a:stretch/>
        </p:blipFill>
        <p:spPr>
          <a:xfrm>
            <a:off x="5568840" y="1768320"/>
            <a:ext cx="3287880" cy="43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cio</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omo es nuevo de momento los precios son elevadísimos asi que no creo que la gente de salario medio pueda acceder a este robot.</a:t>
            </a:r>
            <a:endParaRPr b="0" lang="en-US" sz="3200" spc="-1" strike="noStrike">
              <a:solidFill>
                <a:srgbClr val="000000"/>
              </a:solidFill>
              <a:latin typeface="Arial"/>
            </a:endParaRPr>
          </a:p>
        </p:txBody>
      </p:sp>
      <p:graphicFrame>
        <p:nvGraphicFramePr>
          <p:cNvPr id="63" name=""/>
          <p:cNvGraphicFramePr/>
          <p:nvPr/>
        </p:nvGraphicFramePr>
        <p:xfrm>
          <a:off x="5048280" y="1768320"/>
          <a:ext cx="4327560" cy="4566960"/>
        </p:xfrm>
        <a:graphic>
          <a:graphicData uri="http://schemas.openxmlformats.org/drawingml/2006/table">
            <a:tbl>
              <a:tblPr/>
              <a:tblGrid>
                <a:gridCol w="2163600"/>
                <a:gridCol w="2163960"/>
              </a:tblGrid>
              <a:tr h="912960">
                <a:tc>
                  <a:txBody>
                    <a:bodyPr lIns="90000" rIns="90000" tIns="71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Modelo </a:t>
                      </a:r>
                      <a:endParaRPr b="0" lang="en-US" sz="2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recio inici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120-12-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500 652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296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220-13-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600 58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320-14-5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 800 678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440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X-625-56-8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5 500 65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Tamaño</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tamaño del robot es justo 1,75 metros de altura, mas o menos la altura media de un hombre adulto.</a:t>
            </a:r>
            <a:endParaRPr b="0" lang="en-US" sz="3200" spc="-1" strike="noStrike">
              <a:solidFill>
                <a:srgbClr val="000000"/>
              </a:solidFill>
              <a:latin typeface="Arial"/>
            </a:endParaRPr>
          </a:p>
        </p:txBody>
      </p:sp>
      <p:pic>
        <p:nvPicPr>
          <p:cNvPr id="66" name="" descr=""/>
          <p:cNvPicPr/>
          <p:nvPr/>
        </p:nvPicPr>
        <p:blipFill>
          <a:blip r:embed="rId1"/>
          <a:stretch/>
        </p:blipFill>
        <p:spPr>
          <a:xfrm>
            <a:off x="5048280" y="2527200"/>
            <a:ext cx="4327560" cy="28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1:43:15Z</dcterms:created>
  <dc:creator>villena3ac15 villena3ac15</dc:creator>
  <dc:description/>
  <dc:language>en-US</dc:language>
  <cp:lastModifiedBy>villena3ac15 villena3ac15</cp:lastModifiedBy>
  <dcterms:modified xsi:type="dcterms:W3CDTF">2014-05-29T12:14:16Z</dcterms:modified>
  <cp:revision>3</cp:revision>
  <dc:subject/>
  <dc:title/>
</cp:coreProperties>
</file>