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99E65-5F8B-4A3D-93D9-9CCC0173A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3561B-DF84-4DC2-A565-62A6CE9CD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2F44D-83DA-4CAB-A008-E59C7B59A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5729-E9C5-4A4D-B1FC-C99DD518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93803-9AFF-4E86-8704-B192EB242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E942-461B-416D-981F-6221BBCAB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6943D-DCE9-4FD2-86F9-B935E53CA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30A64-64A2-434E-9001-B8CD4A4F8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A6B29-E18C-47E4-B0F2-6DFA239F6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7F163-21F0-483E-A6B0-A58FA611B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2ADCA-F4F7-4256-A83F-D2115DDA9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8CABD-BC73-4999-B42D-3C8FDA791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DD9C2-56D0-42F2-8094-56F701813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7176-635C-46BD-B540-1ECCAAC58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C082E-D1EA-4BEB-8C6C-FEAA62379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BC188-BB66-4A54-87F7-6FF7B9779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D6603-6E52-4299-ACFB-3D344F23C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9CB34-4400-42EB-BCF3-4942EDF9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20687-5CAD-40CC-918E-1219F894F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FC063-DA50-42D4-B136-FA7E1D4F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A5986-23E6-4F50-8640-6FB3E097B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C9165-9158-4AF7-B081-DECB6FD8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FCFA5-8B77-423D-8792-7C28F1E26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23DC-C13E-46E6-A652-BCB1C0B6D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64DAD-37F3-4C84-B82A-A7AF6B7FFCE1}"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5300" spc="-1" strike="noStrike">
                <a:solidFill>
                  <a:srgbClr val="000080"/>
                </a:solidFill>
                <a:latin typeface="Arial"/>
              </a:rPr>
              <a:t>Click to edit the title text format</a:t>
            </a:r>
            <a:endParaRPr b="1" lang="en-US" sz="5300" spc="-1" strike="noStrike">
              <a:solidFill>
                <a:srgbClr val="00008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9620D0-2BBC-431D-9C86-18857244BF45}"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90440"/>
            <a:ext cx="9070920" cy="224640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5300"/>
            </a:br>
            <a:r>
              <a:rPr b="1" lang="es-ES" sz="5300" spc="-1" strike="noStrike">
                <a:solidFill>
                  <a:srgbClr val="ccffff"/>
                </a:solidFill>
                <a:latin typeface="Arial"/>
              </a:rPr>
              <a:t>Tijeras con láser</a:t>
            </a:r>
            <a:br>
              <a:rPr sz="5300"/>
            </a:br>
            <a:endParaRPr b="1" lang="en-US" sz="5300" spc="-1" strike="noStrike">
              <a:solidFill>
                <a:srgbClr val="000080"/>
              </a:solidFill>
              <a:latin typeface="Arial"/>
            </a:endParaRPr>
          </a:p>
        </p:txBody>
      </p:sp>
      <p:sp>
        <p:nvSpPr>
          <p:cNvPr id="83" name="PlaceHolder 2"/>
          <p:cNvSpPr>
            <a:spLocks noGrp="1"/>
          </p:cNvSpPr>
          <p:nvPr>
            <p:ph type="subTitle"/>
          </p:nvPr>
        </p:nvSpPr>
        <p:spPr>
          <a:xfrm>
            <a:off x="529920" y="1172880"/>
            <a:ext cx="8869320" cy="4384440"/>
          </a:xfrm>
          <a:prstGeom prst="rect">
            <a:avLst/>
          </a:prstGeom>
          <a:noFill/>
          <a:ln w="0">
            <a:noFill/>
          </a:ln>
        </p:spPr>
        <p:txBody>
          <a:bodyPr lIns="0" rIns="0" tIns="2808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yecto multilateral comenius: ¿Que lees?</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ES Isabel de Villena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fesor: José Andrés Molina</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lumno: Ilina Benalba Navalón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Grupo: 4º E.S.O. A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6336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7200" spc="-1" strike="noStrike">
                <a:solidFill>
                  <a:srgbClr val="ff00ff"/>
                </a:solidFill>
                <a:latin typeface="Arial"/>
              </a:rPr>
              <a:t>FÍN </a:t>
            </a:r>
            <a:endParaRPr b="1" lang="en-US" sz="7200" spc="-1" strike="noStrike">
              <a:solidFill>
                <a:srgbClr val="000080"/>
              </a:solidFill>
              <a:latin typeface="Arial"/>
            </a:endParaRPr>
          </a:p>
        </p:txBody>
      </p:sp>
      <p:pic>
        <p:nvPicPr>
          <p:cNvPr id="106" name="" descr=""/>
          <p:cNvPicPr/>
          <p:nvPr/>
        </p:nvPicPr>
        <p:blipFill>
          <a:blip r:embed="rId2"/>
          <a:stretch/>
        </p:blipFill>
        <p:spPr>
          <a:xfrm>
            <a:off x="2847960" y="1768320"/>
            <a:ext cx="4384800" cy="438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con láser </a:t>
            </a:r>
            <a:endParaRPr b="1" lang="en-US" sz="5300" spc="-1" strike="noStrike">
              <a:solidFill>
                <a:srgbClr val="000080"/>
              </a:solidFill>
              <a:latin typeface="Arial"/>
            </a:endParaRPr>
          </a:p>
        </p:txBody>
      </p:sp>
      <p:pic>
        <p:nvPicPr>
          <p:cNvPr id="85" name="" descr=""/>
          <p:cNvPicPr/>
          <p:nvPr/>
        </p:nvPicPr>
        <p:blipFill>
          <a:blip r:embed="rId2"/>
          <a:stretch/>
        </p:blipFill>
        <p:spPr>
          <a:xfrm>
            <a:off x="1079640" y="2232000"/>
            <a:ext cx="4319280" cy="4248000"/>
          </a:xfrm>
          <a:prstGeom prst="rect">
            <a:avLst/>
          </a:prstGeom>
          <a:ln w="0">
            <a:noFill/>
          </a:ln>
        </p:spPr>
      </p:pic>
      <p:pic>
        <p:nvPicPr>
          <p:cNvPr id="86" name="" descr=""/>
          <p:cNvPicPr/>
          <p:nvPr/>
        </p:nvPicPr>
        <p:blipFill>
          <a:blip r:embed="rId3"/>
          <a:stretch/>
        </p:blipFill>
        <p:spPr>
          <a:xfrm>
            <a:off x="5759280" y="2232000"/>
            <a:ext cx="3311640" cy="41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Para que sirven? </a:t>
            </a:r>
            <a:endParaRPr b="1" lang="en-US" sz="5300" spc="-1" strike="noStrike">
              <a:solidFill>
                <a:srgbClr val="000080"/>
              </a:solidFill>
              <a:latin typeface="Arial"/>
            </a:endParaRPr>
          </a:p>
        </p:txBody>
      </p:sp>
      <p:pic>
        <p:nvPicPr>
          <p:cNvPr id="88" name="" descr=""/>
          <p:cNvPicPr/>
          <p:nvPr/>
        </p:nvPicPr>
        <p:blipFill>
          <a:blip r:embed="rId2"/>
          <a:stretch/>
        </p:blipFill>
        <p:spPr>
          <a:xfrm>
            <a:off x="4896000" y="2232000"/>
            <a:ext cx="4384440" cy="4384800"/>
          </a:xfrm>
          <a:prstGeom prst="rect">
            <a:avLst/>
          </a:prstGeom>
          <a:ln w="0">
            <a:noFill/>
          </a:ln>
        </p:spPr>
      </p:pic>
      <p:sp>
        <p:nvSpPr>
          <p:cNvPr id="89" name=""/>
          <p:cNvSpPr/>
          <p:nvPr/>
        </p:nvSpPr>
        <p:spPr>
          <a:xfrm>
            <a:off x="144360" y="2087640"/>
            <a:ext cx="4535640" cy="588312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as tijeras con láser incluido son cómodas, ya que se pueden usar para hacer recortes de revistas, pero también sirven para cortar cartón, papel de foto, pero no solo eso, también sirven para cortar el pelo. </a:t>
            </a:r>
            <a:endParaRPr b="0" lang="en-US" sz="1800" spc="-1" strike="noStrike">
              <a:solidFill>
                <a:srgbClr val="000000"/>
              </a:solidFill>
              <a:latin typeface="Arial"/>
            </a:endParaRPr>
          </a:p>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pic>
        <p:nvPicPr>
          <p:cNvPr id="91" name="" descr=""/>
          <p:cNvPicPr/>
          <p:nvPr/>
        </p:nvPicPr>
        <p:blipFill>
          <a:blip r:embed="rId2"/>
          <a:stretch/>
        </p:blipFill>
        <p:spPr>
          <a:xfrm>
            <a:off x="5151600" y="2382840"/>
            <a:ext cx="3992400" cy="4384800"/>
          </a:xfrm>
          <a:prstGeom prst="rect">
            <a:avLst/>
          </a:prstGeom>
          <a:ln w="0">
            <a:noFill/>
          </a:ln>
        </p:spPr>
      </p:pic>
      <p:sp>
        <p:nvSpPr>
          <p:cNvPr id="92" name=""/>
          <p:cNvSpPr/>
          <p:nvPr/>
        </p:nvSpPr>
        <p:spPr>
          <a:xfrm>
            <a:off x="195120" y="2376360"/>
            <a:ext cx="4557960" cy="45799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Las tijeras con láser te ayudan a hacer recortes en linea recta, ya que el láser te guía para poder recortar perfectamente, tanto un papel, como un cartón, et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Cómo se utilizan?</a:t>
            </a:r>
            <a:endParaRPr b="1" lang="en-US" sz="5300" spc="-1" strike="noStrike">
              <a:solidFill>
                <a:srgbClr val="000080"/>
              </a:solidFill>
              <a:latin typeface="Arial"/>
            </a:endParaRPr>
          </a:p>
        </p:txBody>
      </p:sp>
      <p:pic>
        <p:nvPicPr>
          <p:cNvPr id="94" name="" descr=""/>
          <p:cNvPicPr/>
          <p:nvPr/>
        </p:nvPicPr>
        <p:blipFill>
          <a:blip r:embed="rId2"/>
          <a:stretch/>
        </p:blipFill>
        <p:spPr>
          <a:xfrm>
            <a:off x="5543640" y="1960560"/>
            <a:ext cx="3456000" cy="4446720"/>
          </a:xfrm>
          <a:prstGeom prst="rect">
            <a:avLst/>
          </a:prstGeom>
          <a:ln w="0">
            <a:noFill/>
          </a:ln>
        </p:spPr>
      </p:pic>
      <p:sp>
        <p:nvSpPr>
          <p:cNvPr id="95" name=""/>
          <p:cNvSpPr/>
          <p:nvPr/>
        </p:nvSpPr>
        <p:spPr>
          <a:xfrm>
            <a:off x="216000" y="1960560"/>
            <a:ext cx="5111640" cy="44467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Estas tijeras se utilizan como otras normales, pero con la diferencia que estas llevan un láser incorporado para poder cortar mejor y en la oscuridad en linea rec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sp>
        <p:nvSpPr>
          <p:cNvPr id="97"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No solo ha inventado las tijeras con láser para poder cortar papel, cartón o el pelo, también han inventado unas tijeras con láser para cortar la pizza, y lleva el aplicador para poner el trozo de pizza que has cortado y poder servirlo sin tocarlo con las mano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pic>
        <p:nvPicPr>
          <p:cNvPr id="99" name="" descr=""/>
          <p:cNvPicPr/>
          <p:nvPr/>
        </p:nvPicPr>
        <p:blipFill>
          <a:blip r:embed="rId2"/>
          <a:stretch/>
        </p:blipFill>
        <p:spPr>
          <a:xfrm>
            <a:off x="4975200" y="2703600"/>
            <a:ext cx="4384800" cy="3705120"/>
          </a:xfrm>
          <a:prstGeom prst="rect">
            <a:avLst/>
          </a:prstGeom>
          <a:ln w="0">
            <a:noFill/>
          </a:ln>
        </p:spPr>
      </p:pic>
      <p:pic>
        <p:nvPicPr>
          <p:cNvPr id="100" name="" descr=""/>
          <p:cNvPicPr/>
          <p:nvPr/>
        </p:nvPicPr>
        <p:blipFill>
          <a:blip r:embed="rId3"/>
          <a:stretch/>
        </p:blipFill>
        <p:spPr>
          <a:xfrm>
            <a:off x="1511280" y="2897280"/>
            <a:ext cx="2808360" cy="343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184320"/>
            <a:ext cx="9070920" cy="149688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Donde se pueden comprar y por cuanto precio?</a:t>
            </a:r>
            <a:endParaRPr b="1" lang="en-US" sz="5300" spc="-1" strike="noStrike">
              <a:solidFill>
                <a:srgbClr val="000080"/>
              </a:solidFill>
              <a:latin typeface="Arial"/>
            </a:endParaRPr>
          </a:p>
        </p:txBody>
      </p:sp>
      <p:pic>
        <p:nvPicPr>
          <p:cNvPr id="102" name="" descr=""/>
          <p:cNvPicPr/>
          <p:nvPr/>
        </p:nvPicPr>
        <p:blipFill>
          <a:blip r:embed="rId2"/>
          <a:stretch/>
        </p:blipFill>
        <p:spPr>
          <a:xfrm>
            <a:off x="2376360" y="2376360"/>
            <a:ext cx="5327640" cy="352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Las tijeras con láser se pueden comprar en paginas web como inventosabsurdos.com por tan solo 20 dolares</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n otra pagina web como 96precios.es también están estas tijeras y con un precio de 9,98 eur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07:35:00Z</dcterms:created>
  <dc:creator>villena4dos20 villena4dos20</dc:creator>
  <dc:description/>
  <dc:language>en-US</dc:language>
  <cp:lastModifiedBy>villena4dos20 villena4dos20</cp:lastModifiedBy>
  <dcterms:modified xsi:type="dcterms:W3CDTF">2014-06-10T07:49:44Z</dcterms:modified>
  <cp:revision>3</cp:revision>
  <dc:subject/>
  <dc:title/>
</cp:coreProperties>
</file>